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9913938" cy="6746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69E1-5EB9-4A34-B7BB-1FEEE5BD0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440" y="37299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0D62-1C45-4AA7-9569-D42C46EE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512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0FC9-35D0-4BA4-9567-E1506641B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908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62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4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908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62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10EC-5359-4623-ACC2-B15D9DF53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140D-87E2-46A3-9048-BF192A97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C880-6F91-47D3-A915-DEA2F907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19CE-3661-4679-8709-9C805A48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58D7-1697-4F81-B078-D7B6D3F6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20F3-1317-48A3-93B7-FC57CC63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1FE9-F64A-4CE4-A748-0B704392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512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28E8-2458-4F1E-99C2-003EFF78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C1C8-7A13-4B96-9B74-82D1A9CF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1316-8C07-491F-A55D-5A6548867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93840" y="88920"/>
            <a:ext cx="8508960" cy="6375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26040" y="6330960"/>
            <a:ext cx="2730600" cy="368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50080" y="6254640"/>
            <a:ext cx="27302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949000" y="6207120"/>
            <a:ext cx="270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CC250 - Shaa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28600"/>
            <a:ext cx="8153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68000 CPU and Assembly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troduction 68000.ppt  part-I      1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.Neumann to 6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PU 68000.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egistersystem 68000.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troduction 68000.ppt  part-II    13-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gf. Assembler.Introduction.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dressierungstechnik-1.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dressierungstechnik-2.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dressing Mode &amp; Instructions.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V)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ithmetic Instructions.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romanU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ubroutines &amp; Stack.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romanU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VII) ggf. Stack related Instructions &amp;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romanU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. Deutscher-Tie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th Selceted Slides from SHAA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tus Register: Condition Code Regis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600200" y="685800"/>
            <a:ext cx="5410080" cy="2143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828800" y="3057480"/>
            <a:ext cx="5181480" cy="3090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020640" y="60948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CC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215200" y="65088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Status Register: The System Par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477120" cy="4760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8215200" y="80316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8487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scription of 68000 Regis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2800" y="49500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gram Counter (PC) - points to the next instruction to be executed (24 bits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neral Purpose Registers - D0 through D7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Called "general purpose" because registers can each perform the same range of functions.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32 bits wide, but can be divided into 2 words or 4 bytes.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its in the data register have an arbitrary meaning; e.g., two's complement number, unsigned integer,  or ASCII  characters.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Word operations applied to these registers can only use the low order 16 bits (d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…d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yte operations applied to these registers can only use the low order 8 bits (d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…d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dress Registers - A0 through A7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Called "address registers" because they are always used to store the address of a memory location.   32 bits wide, but cannot be subdivided.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A0 through A6 can be used as you see fit; however, A7 is the stack pointer which is needed to keep track of subroutine return addresses. Therefore, you should not use A7 explicitly.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CR Register   Contains the following flags: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     eXtend flag (similar to the carry flag)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 -   Negative flag - true if first bit 1   (sign bit  or MSB of result is = 1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     Zero flag - true if all bits 0   (result is equal to zero)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     oVerflow flag    (2’s complement overflow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 - Carry flag   (carry out bit from an arithmetic operation)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ertain operations effect all bits; e.g., arithmetic.   Certain operations effect only some of the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its ( e.g., Logical operations do not effect overflow or carry).  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ertain operations do not effect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y  of the bits (e.g., exchange registers)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291520" y="11736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27108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uter Instruction Set Architecture (ISA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amp; Assembly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Instruction Set Architecture (ISA) of the Microprocessor: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ssembly language programmer's view of the processor.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achine Code: 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PU language comprised of computer instructions that controls the primitive operations on binary data within the computer, including: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Data movement and copying instructions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rithmetic operations (e.g., addition and subtraction);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Logic instructions:  AND, OR, XOR, shift operations,  etc.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ontrol instructions:  Jumps, Branching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ssembly Language: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Human-readable representation of the binary code executed by the computer.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1571760"/>
            <a:ext cx="6781680" cy="53316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231040" y="60948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Basic computer operation and organiz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120" y="942840"/>
            <a:ext cx="81536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computer manipulates binary coded data and responds to events occurring in the external world (users, other devices, network).   This is called a stored-program or von-Neumann machine architecture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mory is used to store both programs and data instructions (this is the core of the von-Neumann architecture)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gram instructions are binary coded data which tell the computer to do something,  i.e. add two numbers together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 is simply information to be used by the program, i.e. two numbers to be  added together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central processing unit (CPU) with the following tasks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tching instruction(s) and/or data from memor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oding the instruction(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forming the indicated sequence of opera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00040" y="4786200"/>
            <a:ext cx="6096240" cy="129564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3320" y="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181080"/>
            <a:ext cx="80773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Von-Neumann Computer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0600" y="49536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itioning of the computing engine into component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ntral Processing Unit (CPU): Control Unit (instruction decode , sequencing of operations), Datapath (registers, arithmetic and logic unit, buses)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mory:  Instruction and operand storag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put/Output (I/O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stored program concept: Instructions from an instruction set are fetched from a common memory and executed one at a tim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231920" y="2827440"/>
            <a:ext cx="6832440" cy="3327120"/>
            <a:chOff x="1231920" y="2827440"/>
            <a:chExt cx="6832440" cy="3327120"/>
          </a:xfrm>
        </p:grpSpPr>
        <p:sp>
          <p:nvSpPr>
            <p:cNvPr id="53" name=""/>
            <p:cNvSpPr/>
            <p:nvPr/>
          </p:nvSpPr>
          <p:spPr>
            <a:xfrm>
              <a:off x="3898800" y="3132000"/>
              <a:ext cx="1270080" cy="1041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898800" y="4427640"/>
              <a:ext cx="1270080" cy="1041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612800" y="3132000"/>
              <a:ext cx="1270080" cy="2260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58160" y="3911760"/>
              <a:ext cx="126396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(instructions,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data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020120" y="3378240"/>
              <a:ext cx="1035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42720" y="4521240"/>
              <a:ext cx="12078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pa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registe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ALU, bus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670200" y="2979720"/>
              <a:ext cx="1727280" cy="2946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098240" y="5511960"/>
              <a:ext cx="77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P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31920" y="2827440"/>
              <a:ext cx="6832440" cy="332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74760" y="5587920"/>
              <a:ext cx="2146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puter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480" y="4262400"/>
              <a:ext cx="762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6165720" y="2979720"/>
              <a:ext cx="1727280" cy="3005640"/>
              <a:chOff x="6165720" y="2979720"/>
              <a:chExt cx="1727280" cy="3005640"/>
            </a:xfrm>
          </p:grpSpPr>
          <p:sp>
            <p:nvSpPr>
              <p:cNvPr id="65" name=""/>
              <p:cNvSpPr/>
              <p:nvPr/>
            </p:nvSpPr>
            <p:spPr>
              <a:xfrm>
                <a:off x="6394320" y="4503600"/>
                <a:ext cx="1270080" cy="10414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394320" y="3132000"/>
                <a:ext cx="1270080" cy="10414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592680" y="3454560"/>
                <a:ext cx="7945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pu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515280" y="4826160"/>
                <a:ext cx="979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Outpu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165720" y="2979720"/>
                <a:ext cx="1727280" cy="29462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286680" y="5587920"/>
                <a:ext cx="14364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/O Devic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5376960" y="4338720"/>
              <a:ext cx="761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8443800" y="4140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entral Processing Unit (CPU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rol unit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odes the program instruction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as a program counter which contains the location of the next instruction to be executed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as a status register which monitors the execution of instructions and keeps track of overflows, carries, borrows, etc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rithmetic Logic Unit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rries out the logic and arithmetic operations as required for instructions decoded by the control unit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gisters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gram counter, status registers, stack pointer for subroutine us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number of general-purpose registers accessed by instructions to store addresses, instruction operands, and ALU resul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676520" y="790560"/>
            <a:ext cx="5715000" cy="914400"/>
            <a:chOff x="1676520" y="790560"/>
            <a:chExt cx="5715000" cy="914400"/>
          </a:xfrm>
        </p:grpSpPr>
        <p:grpSp>
          <p:nvGrpSpPr>
            <p:cNvPr id="76" name=""/>
            <p:cNvGrpSpPr/>
            <p:nvPr/>
          </p:nvGrpSpPr>
          <p:grpSpPr>
            <a:xfrm>
              <a:off x="1676520" y="790560"/>
              <a:ext cx="5715000" cy="914400"/>
              <a:chOff x="1676520" y="790560"/>
              <a:chExt cx="5715000" cy="914400"/>
            </a:xfrm>
          </p:grpSpPr>
          <p:sp>
            <p:nvSpPr>
              <p:cNvPr id="77" name=""/>
              <p:cNvSpPr/>
              <p:nvPr/>
            </p:nvSpPr>
            <p:spPr>
              <a:xfrm>
                <a:off x="1676520" y="790560"/>
                <a:ext cx="57150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981080" y="942840"/>
                <a:ext cx="10310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ntro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429360" y="866520"/>
                <a:ext cx="2133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rithmetic Logi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Unit (ALU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927760" y="1033200"/>
                <a:ext cx="118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gist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3200760" y="7905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639040" y="7905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8307000" y="15228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9120" y="21384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Vertical Grid Organization of Memo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308480" cy="4343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459640" y="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418680"/>
            <a:ext cx="81532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puter Data Storage Unit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890280"/>
            <a:ext cx="8305560" cy="53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Smallest quantity of information that can be manipulated inside a computer; its value is either 0 or 1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y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Defined to be a group of 8 bits; and typically the minimum size required to store a character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 Basic unit of information stored in memory and processed by a computer.  Typical computer word lengths are 16, 32 and 64 bi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the 68000, a word is 16-bits , and a long word is 32 bi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s and long words in the 68000 must start a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n memory address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(e.g.   $1000  is allowed, but $1001 produces a memory alignment error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443800" y="11736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8000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629400" cy="4983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367480" y="19368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867040" y="219240"/>
            <a:ext cx="5715000" cy="4014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604880" y="4179960"/>
            <a:ext cx="6015240" cy="1952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09840" y="538200"/>
            <a:ext cx="3161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68000 Pinou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5440" y="500040"/>
            <a:ext cx="3276360" cy="838080"/>
          </a:xfrm>
          <a:prstGeom prst="rect">
            <a:avLst/>
          </a:prstGeom>
          <a:noFill/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91160" y="11736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657600" y="3733920"/>
            <a:ext cx="5105520" cy="5252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638320" y="228600"/>
            <a:ext cx="30481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8000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gister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09480" y="228600"/>
            <a:ext cx="4724640" cy="2413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09480" y="2819520"/>
            <a:ext cx="4800600" cy="2171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533520" y="5181480"/>
            <a:ext cx="4876560" cy="609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533520" y="5819760"/>
            <a:ext cx="4829040" cy="496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943600" y="1981080"/>
            <a:ext cx="20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43960" y="312408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 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68360" y="5181480"/>
            <a:ext cx="205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ck poi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579132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cou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562720" y="2209680"/>
            <a:ext cx="3045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7620120" y="426672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409720" y="609588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562720" y="5410080"/>
            <a:ext cx="3045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562720" y="3352680"/>
            <a:ext cx="3045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05360" y="4572000"/>
            <a:ext cx="20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us 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38680" y="152280"/>
            <a:ext cx="304812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62560" y="11736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07T23:03:44Z</dcterms:created>
  <dc:creator>Shaaban</dc:creator>
  <dc:description/>
  <dc:language>en-US</dc:language>
  <cp:lastModifiedBy>mdeutsch</cp:lastModifiedBy>
  <cp:lastPrinted>1999-11-16T21:46:11Z</cp:lastPrinted>
  <dcterms:modified xsi:type="dcterms:W3CDTF">2008-04-08T15:04:47Z</dcterms:modified>
  <cp:revision>1251</cp:revision>
  <dc:subject>Perl</dc:subject>
  <dc:title>CECS470</dc:title>
</cp:coreProperties>
</file>