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5AB-5642-459C-B564-0605E39F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810-1210-42C8-9DCE-EBBBBD1B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C02-2D7B-4DF0-8B3C-BB5CA292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4FD-D3CD-4A0B-9F2C-5E304BCF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1BF-7092-4448-A254-D76FB8DC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036-7073-4AF3-BF7F-DB30DC92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215-18BB-431D-8BFE-5CD6E5C8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9F2-A734-48C8-828F-374E49DA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F19-DD36-4CA9-B9CD-7C32BCBA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323-0C8C-478F-8C7D-FEC0F821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321-AD79-4E19-800A-E756D0A1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2CD-5FBD-4454-B7E6-E4DE26CF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944D-0159-49E9-B9F3-ED725BC93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Stack-Related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EA   &lt;EA&gt;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ush Effective Address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culates an effective address &lt;ea&gt; and pushes it onto the stack pointed at by address register A7 (the stack pointer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fference between PEA and L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A loads an effective address in any address register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EA pushes it onto the stack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A &lt;EA&gt;     is equivalent to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EA&gt;,A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i,-(A7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re Ai  is an address register other than A7  (A0-A6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648320"/>
            <a:ext cx="342900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8000 Addressing Modes Revisited:</a:t>
            </a:r>
            <a:br>
              <a:rPr sz="3000"/>
            </a:br>
            <a:br>
              <a:rPr sz="6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ddress Register Indirect Addressing with Dis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ddressing notati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16(A0)       or     (d16,A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fers to the address contained  in register A0  plus a signed 16 bit displacement d16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me assembles accept only one of the above syntax form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.L (12,A4),D3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MOVE.L 12(A4),D3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.W (-$4,A1),D0         or        MOVE.W -$4(A1),D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28600"/>
            <a:ext cx="7391520" cy="15238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ameter Passin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Using The Stack  -  Main Program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7200" y="96696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ain Program origin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07FFE,S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nitialize  Stack Poi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,D1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t base number into D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ign extend base to word length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W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,-(SP)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sh base  B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,D2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t exponent number into D2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W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2,-(SP)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sh exponent E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SR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all subroutine  POW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SP)+,D3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p answer from stack resetting SP                  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EA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,A5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put address of  answer into A5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3,(A5)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ave  answ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ase number stored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ponent number stored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S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nswer to be stored 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The St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ed -  Subroutin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8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routine  POWER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MOVE.W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6(SP),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base  from stack to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(SP)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exponent from to D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itialize result in D3 to 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MULS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tiply result D3 with base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2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power in D2 by on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NE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 repeat as long as power &gt; 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3,4(SP)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sh result onto the stack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ne, return to calling program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ffect on The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1000" y="152280"/>
            <a:ext cx="3431520" cy="3110040"/>
            <a:chOff x="531000" y="152280"/>
            <a:chExt cx="3431520" cy="3110040"/>
          </a:xfrm>
        </p:grpSpPr>
        <p:grpSp>
          <p:nvGrpSpPr>
            <p:cNvPr id="121" name=""/>
            <p:cNvGrpSpPr/>
            <p:nvPr/>
          </p:nvGrpSpPr>
          <p:grpSpPr>
            <a:xfrm>
              <a:off x="2666880" y="1052640"/>
              <a:ext cx="1295640" cy="2209680"/>
              <a:chOff x="2666880" y="1052640"/>
              <a:chExt cx="1295640" cy="2209680"/>
            </a:xfrm>
          </p:grpSpPr>
          <p:sp>
            <p:nvSpPr>
              <p:cNvPr id="122" name=""/>
              <p:cNvSpPr/>
              <p:nvPr/>
            </p:nvSpPr>
            <p:spPr>
              <a:xfrm>
                <a:off x="2666880" y="105264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962520" y="105264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666880" y="128124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6880" y="25765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6880" y="29574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666880" y="457200"/>
              <a:ext cx="1295640" cy="442800"/>
              <a:chOff x="2666880" y="457200"/>
              <a:chExt cx="1295640" cy="442800"/>
            </a:xfrm>
          </p:grpSpPr>
          <p:sp>
            <p:nvSpPr>
              <p:cNvPr id="128" name=""/>
              <p:cNvSpPr/>
              <p:nvPr/>
            </p:nvSpPr>
            <p:spPr>
              <a:xfrm>
                <a:off x="2666880" y="90000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880360" y="4572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057400" y="19810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66880" y="18288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1000" y="152280"/>
              <a:ext cx="218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bef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175248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66880" y="22096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96200" y="2209680"/>
              <a:ext cx="813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ase 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43480" y="1828800"/>
              <a:ext cx="1270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Exponent 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57400" y="2743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7360" y="2514600"/>
              <a:ext cx="12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itial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104080" y="3505320"/>
            <a:ext cx="3354120" cy="2705040"/>
            <a:chOff x="5104080" y="3505320"/>
            <a:chExt cx="3354120" cy="2705040"/>
          </a:xfrm>
        </p:grpSpPr>
        <p:grpSp>
          <p:nvGrpSpPr>
            <p:cNvPr id="140" name=""/>
            <p:cNvGrpSpPr/>
            <p:nvPr/>
          </p:nvGrpSpPr>
          <p:grpSpPr>
            <a:xfrm>
              <a:off x="7148520" y="3505320"/>
              <a:ext cx="1295280" cy="442800"/>
              <a:chOff x="7148520" y="3505320"/>
              <a:chExt cx="1295280" cy="442800"/>
            </a:xfrm>
          </p:grpSpPr>
          <p:sp>
            <p:nvSpPr>
              <p:cNvPr id="141" name=""/>
              <p:cNvSpPr/>
              <p:nvPr/>
            </p:nvSpPr>
            <p:spPr>
              <a:xfrm>
                <a:off x="7148520" y="394812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61280" y="350532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162920" y="4000680"/>
              <a:ext cx="1295280" cy="2209680"/>
              <a:chOff x="7162920" y="4000680"/>
              <a:chExt cx="1295280" cy="2209680"/>
            </a:xfrm>
          </p:grpSpPr>
          <p:sp>
            <p:nvSpPr>
              <p:cNvPr id="144" name=""/>
              <p:cNvSpPr/>
              <p:nvPr/>
            </p:nvSpPr>
            <p:spPr>
              <a:xfrm>
                <a:off x="7162920" y="400068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58200" y="400068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7162920" y="4229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2920" y="55245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920" y="59054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2920" y="47768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4080" y="3786120"/>
              <a:ext cx="146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bef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d of 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5157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56912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5334120"/>
              <a:ext cx="143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Initial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867200" y="509760"/>
            <a:ext cx="3514680" cy="3109320"/>
            <a:chOff x="4867200" y="509760"/>
            <a:chExt cx="3514680" cy="3109320"/>
          </a:xfrm>
        </p:grpSpPr>
        <p:sp>
          <p:nvSpPr>
            <p:cNvPr id="155" name=""/>
            <p:cNvSpPr/>
            <p:nvPr/>
          </p:nvSpPr>
          <p:spPr>
            <a:xfrm>
              <a:off x="4941000" y="509760"/>
              <a:ext cx="218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aft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077240" y="1409760"/>
              <a:ext cx="1295280" cy="2209320"/>
              <a:chOff x="7077240" y="1409760"/>
              <a:chExt cx="1295280" cy="2209320"/>
            </a:xfrm>
          </p:grpSpPr>
          <p:sp>
            <p:nvSpPr>
              <p:cNvPr id="157" name=""/>
              <p:cNvSpPr/>
              <p:nvPr/>
            </p:nvSpPr>
            <p:spPr>
              <a:xfrm>
                <a:off x="7077240" y="1409760"/>
                <a:ext cx="0" cy="220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372520" y="1409760"/>
                <a:ext cx="0" cy="220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7077240" y="15001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77240" y="29336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77240" y="1861920"/>
              <a:ext cx="12952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7077240" y="814320"/>
              <a:ext cx="1295280" cy="442440"/>
              <a:chOff x="7077240" y="814320"/>
              <a:chExt cx="1295280" cy="442440"/>
            </a:xfrm>
          </p:grpSpPr>
          <p:sp>
            <p:nvSpPr>
              <p:cNvPr id="163" name=""/>
              <p:cNvSpPr/>
              <p:nvPr/>
            </p:nvSpPr>
            <p:spPr>
              <a:xfrm>
                <a:off x="7077240" y="1256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90000" y="81432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467400" y="163836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77240" y="21859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67200" y="142380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77240" y="25668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06200" y="2566800"/>
              <a:ext cx="813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ase 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53840" y="2185920"/>
              <a:ext cx="1270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Exponent 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67400" y="31003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95160" y="287172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itial 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13680" y="1495440"/>
              <a:ext cx="101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86600" y="32716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706720" y="1881000"/>
              <a:ext cx="308880" cy="990000"/>
              <a:chOff x="5706720" y="1881000"/>
              <a:chExt cx="308880" cy="990000"/>
            </a:xfrm>
          </p:grpSpPr>
          <p:sp>
            <p:nvSpPr>
              <p:cNvPr id="176" name=""/>
              <p:cNvSpPr/>
              <p:nvPr/>
            </p:nvSpPr>
            <p:spPr>
              <a:xfrm>
                <a:off x="5857920" y="256644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57920" y="188100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06720" y="2109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531360" y="3276720"/>
            <a:ext cx="3454920" cy="3109680"/>
            <a:chOff x="531360" y="3276720"/>
            <a:chExt cx="3454920" cy="3109680"/>
          </a:xfrm>
        </p:grpSpPr>
        <p:grpSp>
          <p:nvGrpSpPr>
            <p:cNvPr id="180" name=""/>
            <p:cNvGrpSpPr/>
            <p:nvPr/>
          </p:nvGrpSpPr>
          <p:grpSpPr>
            <a:xfrm>
              <a:off x="2666880" y="4176720"/>
              <a:ext cx="1295640" cy="2209680"/>
              <a:chOff x="2666880" y="4176720"/>
              <a:chExt cx="1295640" cy="2209680"/>
            </a:xfrm>
          </p:grpSpPr>
          <p:sp>
            <p:nvSpPr>
              <p:cNvPr id="181" name=""/>
              <p:cNvSpPr/>
              <p:nvPr/>
            </p:nvSpPr>
            <p:spPr>
              <a:xfrm>
                <a:off x="2666880" y="417672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962520" y="417672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666880" y="42670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6880" y="57006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66880" y="4629240"/>
              <a:ext cx="12956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2666880" y="3581280"/>
              <a:ext cx="1295640" cy="443160"/>
              <a:chOff x="2666880" y="3581280"/>
              <a:chExt cx="1295640" cy="443160"/>
            </a:xfrm>
          </p:grpSpPr>
          <p:sp>
            <p:nvSpPr>
              <p:cNvPr id="187" name=""/>
              <p:cNvSpPr/>
              <p:nvPr/>
            </p:nvSpPr>
            <p:spPr>
              <a:xfrm>
                <a:off x="2666880" y="402444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80360" y="358128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666880" y="49528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1360" y="3276720"/>
              <a:ext cx="1780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 to 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85800" y="4191120"/>
              <a:ext cx="1905120" cy="398880"/>
              <a:chOff x="685800" y="4191120"/>
              <a:chExt cx="1905120" cy="398880"/>
            </a:xfrm>
          </p:grpSpPr>
          <p:sp>
            <p:nvSpPr>
              <p:cNvPr id="192" name=""/>
              <p:cNvSpPr/>
              <p:nvPr/>
            </p:nvSpPr>
            <p:spPr>
              <a:xfrm>
                <a:off x="2057400" y="44053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5800" y="4191120"/>
                <a:ext cx="14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745720" y="5181480"/>
              <a:ext cx="1093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Answ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3680" y="4262400"/>
              <a:ext cx="101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6600" y="6039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90640" y="5334120"/>
              <a:ext cx="12956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76720" y="5029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6720" y="55627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85080" y="5715000"/>
              <a:ext cx="1905840" cy="398880"/>
              <a:chOff x="685080" y="5715000"/>
              <a:chExt cx="1905840" cy="398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57400" y="59292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5080" y="571500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22860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198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4800" y="213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44080" y="4648320"/>
            <a:ext cx="308880" cy="990000"/>
            <a:chOff x="1144080" y="4648320"/>
            <a:chExt cx="308880" cy="990000"/>
          </a:xfrm>
        </p:grpSpPr>
        <p:sp>
          <p:nvSpPr>
            <p:cNvPr id="207" name=""/>
            <p:cNvSpPr/>
            <p:nvPr/>
          </p:nvSpPr>
          <p:spPr>
            <a:xfrm>
              <a:off x="1295280" y="53337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95280" y="46483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44080" y="4876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53880" y="6143760"/>
            <a:ext cx="8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se 3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61800" y="17136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ameter Passin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Using The Stack  -  Main Program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1520" y="147600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Main Program origin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07FFE,SP         Initialize  Stack Poi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E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Push address of Base 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E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Push address of Exponent 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E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Push address of Answer 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SR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              Call subroutine  POW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EA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2(SP),SP            Stack clean-up:  stack pointer reset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Don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Base number stored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Exponent number stored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S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answer to be stored 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The St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ed -  Subroutin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8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routine  POWER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(SP),A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ad Base address  in A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8(SP),A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ad Exponent address  in A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(SP),A3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ad Answer address address in A3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A1),D1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t base number into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ign extend base to word length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(A2)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exponent from to D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itialize result in D3 to 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S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tiply result D3 with base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2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power in D2 by on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NE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 repeat as long as power  &gt; 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3,(A3)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ave result in memory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ne, return to calling program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ffect on The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45120" y="809640"/>
            <a:ext cx="3507480" cy="4876920"/>
            <a:chOff x="645120" y="809640"/>
            <a:chExt cx="3507480" cy="4876920"/>
          </a:xfrm>
        </p:grpSpPr>
        <p:sp>
          <p:nvSpPr>
            <p:cNvPr id="217" name=""/>
            <p:cNvSpPr/>
            <p:nvPr/>
          </p:nvSpPr>
          <p:spPr>
            <a:xfrm>
              <a:off x="2857320" y="34531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57320" y="4538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57320" y="4891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823840" y="1100160"/>
              <a:ext cx="1295640" cy="443160"/>
              <a:chOff x="2823840" y="1100160"/>
              <a:chExt cx="1295640" cy="443160"/>
            </a:xfrm>
          </p:grpSpPr>
          <p:sp>
            <p:nvSpPr>
              <p:cNvPr id="221" name=""/>
              <p:cNvSpPr/>
              <p:nvPr/>
            </p:nvSpPr>
            <p:spPr>
              <a:xfrm>
                <a:off x="2823840" y="154332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37320" y="110016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171520" y="26384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57320" y="3824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120" y="809640"/>
              <a:ext cx="218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ef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9920" y="240984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57320" y="41720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013400" y="4491000"/>
              <a:ext cx="1753560" cy="398880"/>
              <a:chOff x="1013400" y="4491000"/>
              <a:chExt cx="1753560" cy="398880"/>
            </a:xfrm>
          </p:grpSpPr>
          <p:sp>
            <p:nvSpPr>
              <p:cNvPr id="229" name=""/>
              <p:cNvSpPr/>
              <p:nvPr/>
            </p:nvSpPr>
            <p:spPr>
              <a:xfrm>
                <a:off x="2233440" y="4719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013400" y="449100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2857320" y="27622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57320" y="3119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52600" y="157176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57320" y="157176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57320" y="18194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57320" y="24289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57320" y="213840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12120" y="3829320"/>
              <a:ext cx="979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3880" y="312444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4720" y="2414880"/>
              <a:ext cx="1114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sw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74400" y="828720"/>
            <a:ext cx="3507480" cy="4876920"/>
            <a:chOff x="4874400" y="828720"/>
            <a:chExt cx="3507480" cy="4876920"/>
          </a:xfrm>
        </p:grpSpPr>
        <p:sp>
          <p:nvSpPr>
            <p:cNvPr id="242" name=""/>
            <p:cNvSpPr/>
            <p:nvPr/>
          </p:nvSpPr>
          <p:spPr>
            <a:xfrm>
              <a:off x="7086600" y="34718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6600" y="45576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86600" y="49100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053120" y="1119240"/>
              <a:ext cx="1295640" cy="442800"/>
              <a:chOff x="7053120" y="1119240"/>
              <a:chExt cx="1295640" cy="442800"/>
            </a:xfrm>
          </p:grpSpPr>
          <p:sp>
            <p:nvSpPr>
              <p:cNvPr id="246" name=""/>
              <p:cNvSpPr/>
              <p:nvPr/>
            </p:nvSpPr>
            <p:spPr>
              <a:xfrm>
                <a:off x="7053120" y="156204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66600" y="111924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7086600" y="3843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4400" y="828720"/>
              <a:ext cx="218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fte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00800" y="1971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86360" y="174312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86600" y="41911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242680" y="4510080"/>
              <a:ext cx="1753560" cy="398880"/>
              <a:chOff x="5242680" y="4510080"/>
              <a:chExt cx="1753560" cy="398880"/>
            </a:xfrm>
          </p:grpSpPr>
          <p:sp>
            <p:nvSpPr>
              <p:cNvPr id="254" name=""/>
              <p:cNvSpPr/>
              <p:nvPr/>
            </p:nvSpPr>
            <p:spPr>
              <a:xfrm>
                <a:off x="6462720" y="473868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42680" y="451008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7086600" y="27813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31384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81880" y="159084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6600" y="159084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86600" y="18385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86600" y="2448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86600" y="21574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41400" y="3848040"/>
              <a:ext cx="979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03160" y="314316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64000" y="2433600"/>
              <a:ext cx="1114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sw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87680" y="1819440"/>
              <a:ext cx="11530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8366400" y="1812960"/>
            <a:ext cx="581760" cy="2379960"/>
            <a:chOff x="8366400" y="1812960"/>
            <a:chExt cx="581760" cy="2379960"/>
          </a:xfrm>
        </p:grpSpPr>
        <p:sp>
          <p:nvSpPr>
            <p:cNvPr id="268" name=""/>
            <p:cNvSpPr/>
            <p:nvPr/>
          </p:nvSpPr>
          <p:spPr>
            <a:xfrm>
              <a:off x="8366400" y="1812960"/>
              <a:ext cx="43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66760" y="379404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29040" y="3108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67120" y="234612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72840" y="6005520"/>
            <a:ext cx="8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57200" y="2733840"/>
            <a:ext cx="1828800" cy="1676160"/>
            <a:chOff x="457200" y="2733840"/>
            <a:chExt cx="1828800" cy="1676160"/>
          </a:xfrm>
        </p:grpSpPr>
        <p:sp>
          <p:nvSpPr>
            <p:cNvPr id="274" name=""/>
            <p:cNvSpPr/>
            <p:nvPr/>
          </p:nvSpPr>
          <p:spPr>
            <a:xfrm>
              <a:off x="566640" y="3143160"/>
              <a:ext cx="13716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PEA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     PEA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PEA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200" y="2733840"/>
              <a:ext cx="1828800" cy="1676160"/>
            </a:xfrm>
            <a:prstGeom prst="rightArrow">
              <a:avLst>
                <a:gd name="adj1" fmla="val 50000"/>
                <a:gd name="adj2" fmla="val 27277"/>
              </a:avLst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495680" y="3048120"/>
            <a:ext cx="2057400" cy="685800"/>
            <a:chOff x="4495680" y="3048120"/>
            <a:chExt cx="2057400" cy="685800"/>
          </a:xfrm>
        </p:grpSpPr>
        <p:sp>
          <p:nvSpPr>
            <p:cNvPr id="277" name=""/>
            <p:cNvSpPr/>
            <p:nvPr/>
          </p:nvSpPr>
          <p:spPr>
            <a:xfrm>
              <a:off x="4569120" y="3200760"/>
              <a:ext cx="17503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SR      POW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3048120"/>
              <a:ext cx="2057400" cy="685800"/>
            </a:xfrm>
            <a:prstGeom prst="rightArrow">
              <a:avLst>
                <a:gd name="adj1" fmla="val 50000"/>
                <a:gd name="adj2" fmla="val 75000"/>
              </a:avLst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ffect on Th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7640" y="838080"/>
            <a:ext cx="20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st after 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876560" y="838080"/>
            <a:ext cx="3657960" cy="4876920"/>
            <a:chOff x="4876560" y="838080"/>
            <a:chExt cx="3657960" cy="4876920"/>
          </a:xfrm>
        </p:grpSpPr>
        <p:sp>
          <p:nvSpPr>
            <p:cNvPr id="282" name=""/>
            <p:cNvSpPr/>
            <p:nvPr/>
          </p:nvSpPr>
          <p:spPr>
            <a:xfrm>
              <a:off x="7239240" y="34815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39240" y="4567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9240" y="4919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205760" y="1128600"/>
              <a:ext cx="1295280" cy="443160"/>
              <a:chOff x="7205760" y="1128600"/>
              <a:chExt cx="1295280" cy="443160"/>
            </a:xfrm>
          </p:grpSpPr>
          <p:sp>
            <p:nvSpPr>
              <p:cNvPr id="286" name=""/>
              <p:cNvSpPr/>
              <p:nvPr/>
            </p:nvSpPr>
            <p:spPr>
              <a:xfrm>
                <a:off x="7205760" y="1571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18520" y="11286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7239240" y="3852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26680" y="838080"/>
              <a:ext cx="203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after  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ean-up in 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76560" y="4114800"/>
              <a:ext cx="164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39240" y="42004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395320" y="4519440"/>
              <a:ext cx="1752840" cy="398880"/>
              <a:chOff x="5395320" y="4519440"/>
              <a:chExt cx="1752840" cy="398880"/>
            </a:xfrm>
          </p:grpSpPr>
          <p:sp>
            <p:nvSpPr>
              <p:cNvPr id="293" name=""/>
              <p:cNvSpPr/>
              <p:nvPr/>
            </p:nvSpPr>
            <p:spPr>
              <a:xfrm>
                <a:off x="6615000" y="47480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395320" y="451944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7239240" y="27907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39240" y="31478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34520" y="160020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9240" y="160020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39240" y="1847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39240" y="2457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9240" y="21668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09480" y="1128600"/>
            <a:ext cx="3858480" cy="4586400"/>
            <a:chOff x="609480" y="1128600"/>
            <a:chExt cx="3858480" cy="4586400"/>
          </a:xfrm>
        </p:grpSpPr>
        <p:sp>
          <p:nvSpPr>
            <p:cNvPr id="303" name=""/>
            <p:cNvSpPr/>
            <p:nvPr/>
          </p:nvSpPr>
          <p:spPr>
            <a:xfrm>
              <a:off x="2590920" y="34815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67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4919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2557440" y="1128600"/>
              <a:ext cx="1295280" cy="443160"/>
              <a:chOff x="2557440" y="1128600"/>
              <a:chExt cx="1295280" cy="443160"/>
            </a:xfrm>
          </p:grpSpPr>
          <p:sp>
            <p:nvSpPr>
              <p:cNvPr id="307" name=""/>
              <p:cNvSpPr/>
              <p:nvPr/>
            </p:nvSpPr>
            <p:spPr>
              <a:xfrm>
                <a:off x="2557440" y="1571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770200" y="11286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2590920" y="3852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81080" y="26701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43828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90920" y="42004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747000" y="4519440"/>
              <a:ext cx="1752840" cy="398880"/>
              <a:chOff x="747000" y="4519440"/>
              <a:chExt cx="1752840" cy="398880"/>
            </a:xfrm>
          </p:grpSpPr>
          <p:sp>
            <p:nvSpPr>
              <p:cNvPr id="314" name=""/>
              <p:cNvSpPr/>
              <p:nvPr/>
            </p:nvSpPr>
            <p:spPr>
              <a:xfrm>
                <a:off x="1966680" y="47480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47000" y="451944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2590920" y="27907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90920" y="31478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6200" y="160020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90920" y="160020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90920" y="1847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90920" y="2457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90920" y="21668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45720" y="3857760"/>
              <a:ext cx="979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07120" y="31528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68320" y="2443320"/>
              <a:ext cx="1114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sw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86560" y="24462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86920" y="3809880"/>
              <a:ext cx="51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86920" y="3124080"/>
              <a:ext cx="51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86560" y="455616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749160" y="6005520"/>
            <a:ext cx="8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572000" y="2971800"/>
            <a:ext cx="2057400" cy="685800"/>
            <a:chOff x="4572000" y="2971800"/>
            <a:chExt cx="2057400" cy="685800"/>
          </a:xfrm>
        </p:grpSpPr>
        <p:sp>
          <p:nvSpPr>
            <p:cNvPr id="332" name=""/>
            <p:cNvSpPr/>
            <p:nvPr/>
          </p:nvSpPr>
          <p:spPr>
            <a:xfrm>
              <a:off x="4648320" y="3111480"/>
              <a:ext cx="185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A    12(SP),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72000" y="2971800"/>
              <a:ext cx="2057400" cy="685800"/>
            </a:xfrm>
            <a:prstGeom prst="rightArrow">
              <a:avLst>
                <a:gd name="adj1" fmla="val 50000"/>
                <a:gd name="adj2" fmla="val 75000"/>
              </a:avLst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57200" y="2924280"/>
            <a:ext cx="1295280" cy="685800"/>
            <a:chOff x="457200" y="2924280"/>
            <a:chExt cx="1295280" cy="685800"/>
          </a:xfrm>
        </p:grpSpPr>
        <p:sp>
          <p:nvSpPr>
            <p:cNvPr id="335" name=""/>
            <p:cNvSpPr/>
            <p:nvPr/>
          </p:nvSpPr>
          <p:spPr>
            <a:xfrm>
              <a:off x="601200" y="3079800"/>
              <a:ext cx="648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7200" y="2924280"/>
              <a:ext cx="1295280" cy="685800"/>
            </a:xfrm>
            <a:prstGeom prst="rightArrow">
              <a:avLst>
                <a:gd name="adj1" fmla="val 50000"/>
                <a:gd name="adj2" fmla="val 47218"/>
              </a:avLst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OVE Multiple:  MOVEM  Instruc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instruction saves or restores multiple register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seful in subroutines to save the values of registers not used to pass parameters.    MOVEM has two form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VEM register_list,&lt;ea&gt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VEM &lt;ea&gt;,register_lis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 effect on CC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   Saving/restoring registers to from memo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BR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M    D0-D7/A0-A6,SAVEBLOCK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AVE D0-D7/A0-A6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M    SAVEBLOCK,D0-D7/A0-A7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store D0-D7/A0-A6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TS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  Saving/restoring registers using the stack (preferred method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BR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M    D0-D7/A0-A6,-(SP)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sh D0-D7/A0-A6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M    (SP)+,D0-D7/A0-A7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store D0-D7/A0-A6  from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Power Calculation Subrout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subroutine is needed which accepts two integers as  input parameter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base, B  (a signed integer), Size = one byte    (range:    -128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127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 exponent E (a positive integer)  Size = one byte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, compute the function 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E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ze  of answer = long wor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ctional specification (pseudo code) of subroutine POWER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WER (B, 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1  = B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input arguments, b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2  = E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exponent, a positive integ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ize D3 to 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answer initialized to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ile  D2  &gt;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3 =  D1*D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compute function  us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2 = D2  - 1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continued product of b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POW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to calling progra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Flow Chart of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3520" y="838080"/>
            <a:ext cx="5873040" cy="5166720"/>
            <a:chOff x="533520" y="838080"/>
            <a:chExt cx="5873040" cy="5166720"/>
          </a:xfrm>
        </p:grpSpPr>
        <p:grpSp>
          <p:nvGrpSpPr>
            <p:cNvPr id="54" name=""/>
            <p:cNvGrpSpPr/>
            <p:nvPr/>
          </p:nvGrpSpPr>
          <p:grpSpPr>
            <a:xfrm>
              <a:off x="1066680" y="1295280"/>
              <a:ext cx="2286000" cy="4709520"/>
              <a:chOff x="1066680" y="1295280"/>
              <a:chExt cx="2286000" cy="470952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266840" y="4481280"/>
                <a:ext cx="1828800" cy="1523520"/>
                <a:chOff x="1266840" y="4481280"/>
                <a:chExt cx="1828800" cy="1523520"/>
              </a:xfrm>
            </p:grpSpPr>
            <p:sp>
              <p:nvSpPr>
                <p:cNvPr id="56" name=""/>
                <p:cNvSpPr/>
                <p:nvPr/>
              </p:nvSpPr>
              <p:spPr>
                <a:xfrm flipH="1">
                  <a:off x="1266840" y="4481280"/>
                  <a:ext cx="9144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>
                  <a:off x="2181240" y="5243040"/>
                  <a:ext cx="9144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266840" y="5243040"/>
                  <a:ext cx="9144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181240" y="4481280"/>
                  <a:ext cx="9144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66680" y="1295280"/>
                <a:ext cx="2286000" cy="1295280"/>
                <a:chOff x="1066680" y="1295280"/>
                <a:chExt cx="2286000" cy="1295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066680" y="1295280"/>
                  <a:ext cx="2286000" cy="1295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293120" y="1447560"/>
                  <a:ext cx="182196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1 =  ba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2 =  expon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3 = 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1066680" y="2895480"/>
                <a:ext cx="2286000" cy="533160"/>
                <a:chOff x="1066680" y="2895480"/>
                <a:chExt cx="2286000" cy="5331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066680" y="2895480"/>
                  <a:ext cx="2286000" cy="5331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277640" y="2985840"/>
                  <a:ext cx="164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3 = D3 * D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066680" y="3657240"/>
                <a:ext cx="2286000" cy="533160"/>
                <a:chOff x="1066680" y="3657240"/>
                <a:chExt cx="2286000" cy="5331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066680" y="3657240"/>
                  <a:ext cx="2286000" cy="5331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77280" y="3747600"/>
                  <a:ext cx="1483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2 = D2  -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1598760" y="5028840"/>
                <a:ext cx="121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2  =  0 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209680" y="342864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09680" y="25905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420516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 flipH="1">
              <a:off x="533520" y="525744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33720" y="8380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52600" y="899640"/>
              <a:ext cx="0" cy="434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2880" y="91404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1040" y="466236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62160" y="524340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77800" y="47242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77680" y="4890960"/>
              <a:ext cx="192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 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343400" y="838080"/>
            <a:ext cx="4191120" cy="3809880"/>
            <a:chOff x="4343400" y="838080"/>
            <a:chExt cx="4191120" cy="3809880"/>
          </a:xfrm>
        </p:grpSpPr>
        <p:grpSp>
          <p:nvGrpSpPr>
            <p:cNvPr id="82" name=""/>
            <p:cNvGrpSpPr/>
            <p:nvPr/>
          </p:nvGrpSpPr>
          <p:grpSpPr>
            <a:xfrm>
              <a:off x="6781680" y="1890360"/>
              <a:ext cx="1295640" cy="2210040"/>
              <a:chOff x="6781680" y="1890360"/>
              <a:chExt cx="1295640" cy="2210040"/>
            </a:xfrm>
          </p:grpSpPr>
          <p:sp>
            <p:nvSpPr>
              <p:cNvPr id="83" name=""/>
              <p:cNvSpPr/>
              <p:nvPr/>
            </p:nvSpPr>
            <p:spPr>
              <a:xfrm>
                <a:off x="6781680" y="1890360"/>
                <a:ext cx="0" cy="221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077320" y="1890360"/>
                <a:ext cx="0" cy="221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6781680" y="21189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81680" y="34146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1680" y="3033360"/>
              <a:ext cx="12956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81680" y="37954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781680" y="1295280"/>
              <a:ext cx="1295640" cy="442800"/>
              <a:chOff x="6781680" y="1295280"/>
              <a:chExt cx="1295640" cy="442800"/>
            </a:xfrm>
          </p:grpSpPr>
          <p:sp>
            <p:nvSpPr>
              <p:cNvPr id="90" name=""/>
              <p:cNvSpPr/>
              <p:nvPr/>
            </p:nvSpPr>
            <p:spPr>
              <a:xfrm>
                <a:off x="6781680" y="173808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995160" y="129528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799880" y="2422440"/>
              <a:ext cx="1905480" cy="1008720"/>
              <a:chOff x="4799880" y="2422440"/>
              <a:chExt cx="1905480" cy="1008720"/>
            </a:xfrm>
          </p:grpSpPr>
          <p:sp>
            <p:nvSpPr>
              <p:cNvPr id="93" name=""/>
              <p:cNvSpPr/>
              <p:nvPr/>
            </p:nvSpPr>
            <p:spPr>
              <a:xfrm>
                <a:off x="4799880" y="2422440"/>
                <a:ext cx="13557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P dur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rout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2200" y="28191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4648320" y="3276360"/>
              <a:ext cx="1868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itial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and aft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 fr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brout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95880" y="3566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2666880"/>
              <a:ext cx="101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81680" y="26668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6600" y="838080"/>
              <a:ext cx="27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ffect on The 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43400" y="838080"/>
              <a:ext cx="419112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WER: Four Parameter Passing C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’ll examine four assembly versions of subroutine POWER and sample Main programs that calls 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version uses a different parameter passing metho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Times New Roman"/>
              </a:rPr>
              <a:t>Case 1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using data register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Times New Roman"/>
              </a:rPr>
              <a:t>Case 2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using address register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Times New Roman"/>
              </a:rPr>
              <a:t>Case 3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using the stack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using the stack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819520"/>
            <a:ext cx="7696080" cy="27432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5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Data Regis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ain Program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 Program orig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$07FFE,S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ize  Stack Point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B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,D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t base number into D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n extend base to word lengt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B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,D2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t exponent number into D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SR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WER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l subroutine  POW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,A5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ut address of  answer into A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3,(A5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ve  answ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e number stored he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nent number stored he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S.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swer to be stored  he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Data Regis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ed  - 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8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routine  POWER orig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1,D3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ize result to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MULS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1,D3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y result with b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1,D2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rement power by o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NE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repeat as long as power &gt; 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e, return to calling progra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Address Regis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ain Program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in Program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$07FFE,S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itialize  Stack Point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,A1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1  points to base numb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,A2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2  points to exponen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SR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WER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all subroutine  POW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,A5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put address of  answer into A5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3,(A5)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ave  answer in memory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ase number stored her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ponent number stored her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S.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swer to be stored  her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Address Registers Continued - 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8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routine  POWER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MOVE.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(A1),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base number to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gn extend base to word length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(A2)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exponent to D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itialize result in D3 to 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MULS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tiply result D3 with base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2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power in D2 by on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NE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 repeat as long as power &gt; 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ne, return to calling program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uhammad Shaaban</cp:lastModifiedBy>
  <cp:lastPrinted>1998-09-24T09:30:16Z</cp:lastPrinted>
  <dcterms:modified xsi:type="dcterms:W3CDTF">1998-09-24T09:39:51Z</dcterms:modified>
  <cp:revision>2449</cp:revision>
  <dc:subject>Perl</dc:subject>
  <dc:title>CECS470</dc:title>
</cp:coreProperties>
</file>