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1A4-0345-4109-B6E6-C226DDE8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04B-2C51-47FB-A04A-634B22A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6D1-DF6B-42C3-90F0-7B68DFF4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B83-5FF5-43A4-904E-359248ED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E12-F385-4533-AAF9-CB0AB50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E85-6A20-44F0-B208-483424B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E6F-67FC-4358-8418-B5BDE4D1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110-8372-4F43-AAAF-DDFB5087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A92-941A-4926-B551-004751E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E24-389F-44F5-8398-FA7B192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3E1-3416-49AB-B3AD-552913F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D1F-6101-47D4-956F-0EE1E3E8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5561-EB12-4AB5-960B-523569FD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ack and Local Subroutin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 Local workspac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of size may be required by a subroutine for temporary private variables when there are insufficient registers to handle the calculation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involves defining the solution of a problem in terms of itself  (i.e  a subroutine calling itself)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 order to use the subroutin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, this workspace may have to be attached to each use or call of the subroutine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stack frame (SF) is defined as a region of temporary storage in memory of size d bytes at the top of the current stack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pon creating a fram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rame pointer (FP) points to the bottom of the stack frame.   The A6  register is normally used for the frame point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ck pointer is updated to point to the top of the fra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LINK and UNLK instructions are used to facilitate the creation of local subroutine storage as stack fram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INK  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allocates or destroys a stack frame.   Where An  is the address register used as frame pointer (FP); usually A6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the stack pointer to the value in  address register A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e     SP  =  An      or        SP = SP +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  register An  by popping its value from the stack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cludes post-incrementing SP by 4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(SP),SP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SP)+,A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5305320"/>
            <a:ext cx="3581280" cy="8384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6640" y="1281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6120" y="609480"/>
            <a:ext cx="3449160" cy="5657760"/>
            <a:chOff x="456120" y="609480"/>
            <a:chExt cx="3449160" cy="5657760"/>
          </a:xfrm>
        </p:grpSpPr>
        <p:grpSp>
          <p:nvGrpSpPr>
            <p:cNvPr id="228" name=""/>
            <p:cNvGrpSpPr/>
            <p:nvPr/>
          </p:nvGrpSpPr>
          <p:grpSpPr>
            <a:xfrm>
              <a:off x="456120" y="3219480"/>
              <a:ext cx="1753560" cy="612360"/>
              <a:chOff x="456120" y="3219480"/>
              <a:chExt cx="175356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6520" y="34322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6120" y="321948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219400" y="5600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19400" y="5981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19400" y="4762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19400" y="36194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9400" y="40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19400" y="146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0800" y="4838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35240" y="41209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4575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848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17715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56480" y="628560"/>
              <a:ext cx="1753200" cy="871560"/>
              <a:chOff x="456480" y="628560"/>
              <a:chExt cx="1753200" cy="871560"/>
            </a:xfrm>
          </p:grpSpPr>
          <p:sp>
            <p:nvSpPr>
              <p:cNvPr id="244" name=""/>
              <p:cNvSpPr/>
              <p:nvPr/>
            </p:nvSpPr>
            <p:spPr>
              <a:xfrm>
                <a:off x="1676520" y="8413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6480" y="62856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224080" y="60948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91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13143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9680" y="36003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582720" y="628560"/>
              <a:ext cx="322560" cy="2514600"/>
              <a:chOff x="3582720" y="628560"/>
              <a:chExt cx="322560" cy="2514600"/>
            </a:xfrm>
          </p:grpSpPr>
          <p:sp>
            <p:nvSpPr>
              <p:cNvPr id="251" name=""/>
              <p:cNvSpPr/>
              <p:nvPr/>
            </p:nvSpPr>
            <p:spPr>
              <a:xfrm>
                <a:off x="3582720" y="1695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3657600" y="628560"/>
                <a:ext cx="0" cy="2514600"/>
                <a:chOff x="3657600" y="628560"/>
                <a:chExt cx="0" cy="2514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657600" y="62856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657600" y="215280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363040" y="177156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09680" y="933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61960" y="326700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8480" y="752400"/>
            <a:ext cx="3124440" cy="5410080"/>
            <a:chOff x="5028480" y="752400"/>
            <a:chExt cx="3124440" cy="5410080"/>
          </a:xfrm>
        </p:grpSpPr>
        <p:grpSp>
          <p:nvGrpSpPr>
            <p:cNvPr id="259" name=""/>
            <p:cNvGrpSpPr/>
            <p:nvPr/>
          </p:nvGrpSpPr>
          <p:grpSpPr>
            <a:xfrm>
              <a:off x="6857640" y="752400"/>
              <a:ext cx="1295280" cy="442800"/>
              <a:chOff x="6857640" y="752400"/>
              <a:chExt cx="1295280" cy="44280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7640" y="11952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0400" y="7524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857640" y="5495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7640" y="58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7640" y="4657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8480" y="1285560"/>
              <a:ext cx="166212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14468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4440" y="39528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7640" y="35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7640" y="3971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356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7640" y="25142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7640" y="3124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7640" y="2833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9040" y="47336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73480" y="40161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8280" y="435276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672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038480" y="2514600"/>
            <a:ext cx="2514600" cy="685800"/>
            <a:chOff x="4038480" y="2514600"/>
            <a:chExt cx="2514600" cy="685800"/>
          </a:xfrm>
        </p:grpSpPr>
        <p:sp>
          <p:nvSpPr>
            <p:cNvPr id="279" name=""/>
            <p:cNvSpPr/>
            <p:nvPr/>
          </p:nvSpPr>
          <p:spPr>
            <a:xfrm>
              <a:off x="4191120" y="2666880"/>
              <a:ext cx="157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2514600"/>
              <a:ext cx="2514600" cy="685800"/>
            </a:xfrm>
            <a:prstGeom prst="rightArrow">
              <a:avLst>
                <a:gd name="adj1" fmla="val 50000"/>
                <a:gd name="adj2" fmla="val 91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480060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09520" y="4815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3886200"/>
            <a:ext cx="1752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76920" y="1522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-(SP)     Push parameter #1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,-(SP)     Push parameter #2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         Jump to subroutine SBR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,-#$8      Establish FP and local storag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(A6),D5   Retrieve parameter #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4,-4(A6)   local  write to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L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deallocate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2400" y="324000"/>
            <a:ext cx="3542400" cy="457200"/>
            <a:chOff x="572400" y="324000"/>
            <a:chExt cx="3542400" cy="457200"/>
          </a:xfrm>
        </p:grpSpPr>
        <p:sp>
          <p:nvSpPr>
            <p:cNvPr id="287" name=""/>
            <p:cNvSpPr/>
            <p:nvPr/>
          </p:nvSpPr>
          <p:spPr>
            <a:xfrm>
              <a:off x="572400" y="324000"/>
              <a:ext cx="35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main progra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80" y="324000"/>
              <a:ext cx="350532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14440" y="2405160"/>
            <a:ext cx="3504960" cy="457200"/>
            <a:chOff x="514440" y="2405160"/>
            <a:chExt cx="3504960" cy="457200"/>
          </a:xfrm>
        </p:grpSpPr>
        <p:sp>
          <p:nvSpPr>
            <p:cNvPr id="290" name=""/>
            <p:cNvSpPr/>
            <p:nvPr/>
          </p:nvSpPr>
          <p:spPr>
            <a:xfrm>
              <a:off x="660240" y="2405160"/>
              <a:ext cx="31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subroutin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4440" y="2405160"/>
              <a:ext cx="350496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WWR230" descr=""/>
          <p:cNvPicPr/>
          <p:nvPr/>
        </p:nvPicPr>
        <p:blipFill>
          <a:blip r:embed="rId1"/>
          <a:stretch/>
        </p:blipFill>
        <p:spPr>
          <a:xfrm>
            <a:off x="784080" y="304920"/>
            <a:ext cx="5194440" cy="60958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916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1080" y="21337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 A6,-#$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WWR229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3004920" cy="6019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Multi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routine Calls on Frame Pointers when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to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  D0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the initial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  D0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t the result to the input valu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        SUBQ.W      #1,D0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ILE N &gt;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EQ            Exit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:= N -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LU        D0,D1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_N := N * Factorial_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           Loop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(SP)+,D0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the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523880"/>
            <a:ext cx="4419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 = 1 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N * Factorial(N-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4120" y="762120"/>
            <a:ext cx="4589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 factorial of a positive integer is defined a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! = n x (n-1) x (n-2) x (n-3) x .... x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4200" y="152388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udo co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8920" y="327672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mbly Subroutine using it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720" y="6858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52578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523880"/>
            <a:ext cx="533412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to compute the factorial of a number using recursive sub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s.   Parameter passing by value via data register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,D0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e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oto factorial 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F_NUMB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store resul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.W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5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number to be factorializ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NUMB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factorial of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Initial conditions: D0.W = number to compute factorial o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0  &lt;  D0.W &lt; 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Final conditions:   D0.W =  factorial of inpu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Register usage:      D0.W     destructively us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Sample case:         Input:     D0.W 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Output:     D0.W = 1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D0,-(SP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sh input number onto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Q.W       #1,D0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men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E.S           F_CO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ched 1 yet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(SP)+,D0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, factorial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CONT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         FACTOR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, call FAC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U         (SP)+,D0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y only after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contains al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8840" y="5335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4_pic8" descr=""/>
          <p:cNvPicPr/>
          <p:nvPr/>
        </p:nvPicPr>
        <p:blipFill>
          <a:blip r:embed="rId1"/>
          <a:stretch/>
        </p:blipFill>
        <p:spPr>
          <a:xfrm>
            <a:off x="1068480" y="228600"/>
            <a:ext cx="3855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ating Of A Stack Frame of Size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67920" y="662040"/>
            <a:ext cx="3122640" cy="5410080"/>
            <a:chOff x="367920" y="662040"/>
            <a:chExt cx="3122640" cy="5410080"/>
          </a:xfrm>
        </p:grpSpPr>
        <p:grpSp>
          <p:nvGrpSpPr>
            <p:cNvPr id="64" name=""/>
            <p:cNvGrpSpPr/>
            <p:nvPr/>
          </p:nvGrpSpPr>
          <p:grpSpPr>
            <a:xfrm>
              <a:off x="2195280" y="662040"/>
              <a:ext cx="1295280" cy="442800"/>
              <a:chOff x="2195280" y="662040"/>
              <a:chExt cx="1295280" cy="442800"/>
            </a:xfrm>
          </p:grpSpPr>
          <p:sp>
            <p:nvSpPr>
              <p:cNvPr id="65" name=""/>
              <p:cNvSpPr/>
              <p:nvPr/>
            </p:nvSpPr>
            <p:spPr>
              <a:xfrm>
                <a:off x="2195280" y="110484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08040" y="6620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195280" y="5405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280" y="5786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528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920" y="1195200"/>
              <a:ext cx="171828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2120" y="405432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080" y="386244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5280" y="34243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280" y="3881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8120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280" y="2423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280" y="3033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280" y="27432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464328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1120" y="392580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5920" y="426240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436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730320" y="1676520"/>
            <a:ext cx="20185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ck just af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reating a stac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rame of size 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 the subrout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81280" y="3048120"/>
            <a:ext cx="2209680" cy="1600200"/>
            <a:chOff x="3581280" y="3048120"/>
            <a:chExt cx="2209680" cy="1600200"/>
          </a:xfrm>
        </p:grpSpPr>
        <p:sp>
          <p:nvSpPr>
            <p:cNvPr id="85" name=""/>
            <p:cNvSpPr/>
            <p:nvPr/>
          </p:nvSpPr>
          <p:spPr>
            <a:xfrm>
              <a:off x="3675240" y="3505320"/>
              <a:ext cx="182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4(SP),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d(SP),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3048120"/>
              <a:ext cx="2209680" cy="1600200"/>
            </a:xfrm>
            <a:prstGeom prst="rightArrow">
              <a:avLst>
                <a:gd name="adj1" fmla="val 50000"/>
                <a:gd name="adj2" fmla="val 345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510400" y="23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09360" y="1066680"/>
            <a:ext cx="3277440" cy="5029200"/>
            <a:chOff x="5409360" y="1066680"/>
            <a:chExt cx="3277440" cy="5029200"/>
          </a:xfrm>
        </p:grpSpPr>
        <p:grpSp>
          <p:nvGrpSpPr>
            <p:cNvPr id="89" name=""/>
            <p:cNvGrpSpPr/>
            <p:nvPr/>
          </p:nvGrpSpPr>
          <p:grpSpPr>
            <a:xfrm>
              <a:off x="5485320" y="3048120"/>
              <a:ext cx="1753560" cy="612360"/>
              <a:chOff x="5485320" y="3048120"/>
              <a:chExt cx="1753560" cy="612360"/>
            </a:xfrm>
          </p:grpSpPr>
          <p:sp>
            <p:nvSpPr>
              <p:cNvPr id="90" name=""/>
              <p:cNvSpPr/>
              <p:nvPr/>
            </p:nvSpPr>
            <p:spPr>
              <a:xfrm>
                <a:off x="67057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853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2486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86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486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486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86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45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86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48600" y="3057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00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644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6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409360" y="1295280"/>
              <a:ext cx="1753200" cy="871560"/>
              <a:chOff x="5409360" y="1295280"/>
              <a:chExt cx="1753200" cy="871560"/>
            </a:xfrm>
          </p:grpSpPr>
          <p:sp>
            <p:nvSpPr>
              <p:cNvPr id="106" name=""/>
              <p:cNvSpPr/>
              <p:nvPr/>
            </p:nvSpPr>
            <p:spPr>
              <a:xfrm>
                <a:off x="6629400" y="150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09360" y="129528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238880" y="129528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2971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16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86800" y="1295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6800" y="281952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2240" y="190512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troying A Stack Fr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6480" y="914400"/>
            <a:ext cx="3277440" cy="5029200"/>
            <a:chOff x="456480" y="914400"/>
            <a:chExt cx="3277440" cy="5029200"/>
          </a:xfrm>
        </p:grpSpPr>
        <p:grpSp>
          <p:nvGrpSpPr>
            <p:cNvPr id="117" name=""/>
            <p:cNvGrpSpPr/>
            <p:nvPr/>
          </p:nvGrpSpPr>
          <p:grpSpPr>
            <a:xfrm>
              <a:off x="532440" y="2895840"/>
              <a:ext cx="1753560" cy="612360"/>
              <a:chOff x="532440" y="2895840"/>
              <a:chExt cx="1753560" cy="612360"/>
            </a:xfrm>
          </p:grpSpPr>
          <p:sp>
            <p:nvSpPr>
              <p:cNvPr id="118" name=""/>
              <p:cNvSpPr/>
              <p:nvPr/>
            </p:nvSpPr>
            <p:spPr>
              <a:xfrm>
                <a:off x="1752840" y="3108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2440" y="289584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9572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95720" y="5658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9572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9572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9572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95720" y="114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572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7120" y="451512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156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0" y="41338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480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0" y="14479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56480" y="1143000"/>
              <a:ext cx="1753200" cy="871560"/>
              <a:chOff x="456480" y="1143000"/>
              <a:chExt cx="1753200" cy="871560"/>
            </a:xfrm>
          </p:grpSpPr>
          <p:sp>
            <p:nvSpPr>
              <p:cNvPr id="134" name=""/>
              <p:cNvSpPr/>
              <p:nvPr/>
            </p:nvSpPr>
            <p:spPr>
              <a:xfrm>
                <a:off x="1676520" y="13557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480" y="11430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114300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2819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1524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2767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33920" y="1143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66724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9360" y="175284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334480" y="533520"/>
            <a:ext cx="3123360" cy="5410080"/>
            <a:chOff x="5334480" y="533520"/>
            <a:chExt cx="3123360" cy="5410080"/>
          </a:xfrm>
        </p:grpSpPr>
        <p:grpSp>
          <p:nvGrpSpPr>
            <p:cNvPr id="144" name=""/>
            <p:cNvGrpSpPr/>
            <p:nvPr/>
          </p:nvGrpSpPr>
          <p:grpSpPr>
            <a:xfrm>
              <a:off x="7162560" y="533520"/>
              <a:ext cx="1295280" cy="442800"/>
              <a:chOff x="7162560" y="533520"/>
              <a:chExt cx="1295280" cy="442800"/>
            </a:xfrm>
          </p:grpSpPr>
          <p:sp>
            <p:nvSpPr>
              <p:cNvPr id="145" name=""/>
              <p:cNvSpPr/>
              <p:nvPr/>
            </p:nvSpPr>
            <p:spPr>
              <a:xfrm>
                <a:off x="7162560" y="9763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75320" y="5335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6256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5657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56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4480" y="1066680"/>
              <a:ext cx="149580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stroying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392580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9360" y="373392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56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848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560" y="2295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56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26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03960" y="4514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7840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3200" y="413388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14440" y="27432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   d(SP),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0" y="246204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3640" y="225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759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K    An,-# 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cates or creates a frame in the stack for local use by the subroutine of size d byt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is an address register serving as the frame pointer (FP);  A6 is us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the contents of address register  An  onto the stack. (includes pre-decrementing  SP  by  4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the stack pointer in An   (An points to bottom of fram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 the stack pointer by  d  (points to the top o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fra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6,-(SP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P),A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d(SP)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ter creating the fram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ed parameters are accessed with a positive displacement with respect to (FP), A6   i.e    MOVE.W   8(A6),D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 temporary storage variables are accessed with negative displacement with respect to  A6     i.e.   MOVE.L  D2,-10(A6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733920"/>
            <a:ext cx="335268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99880" y="10008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1960" y="685800"/>
            <a:ext cx="3123360" cy="5410080"/>
            <a:chOff x="381960" y="685800"/>
            <a:chExt cx="3123360" cy="5410080"/>
          </a:xfrm>
        </p:grpSpPr>
        <p:grpSp>
          <p:nvGrpSpPr>
            <p:cNvPr id="171" name=""/>
            <p:cNvGrpSpPr/>
            <p:nvPr/>
          </p:nvGrpSpPr>
          <p:grpSpPr>
            <a:xfrm>
              <a:off x="2209680" y="685800"/>
              <a:ext cx="1295640" cy="442800"/>
              <a:chOff x="2209680" y="685800"/>
              <a:chExt cx="1295640" cy="442800"/>
            </a:xfrm>
          </p:grpSpPr>
          <p:sp>
            <p:nvSpPr>
              <p:cNvPr id="172" name=""/>
              <p:cNvSpPr/>
              <p:nvPr/>
            </p:nvSpPr>
            <p:spPr>
              <a:xfrm>
                <a:off x="2209680" y="1128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23160" y="685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209680" y="54291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9680" y="58100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4591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960" y="1218960"/>
              <a:ext cx="17182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efore LIN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078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480" y="38862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4480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39052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560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24476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3057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7669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1080" y="46670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2588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0320" y="42861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876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028120" y="438120"/>
            <a:ext cx="3449160" cy="5657760"/>
            <a:chOff x="5028120" y="438120"/>
            <a:chExt cx="3449160" cy="5657760"/>
          </a:xfrm>
        </p:grpSpPr>
        <p:grpSp>
          <p:nvGrpSpPr>
            <p:cNvPr id="191" name=""/>
            <p:cNvGrpSpPr/>
            <p:nvPr/>
          </p:nvGrpSpPr>
          <p:grpSpPr>
            <a:xfrm>
              <a:off x="5028120" y="3048120"/>
              <a:ext cx="1753560" cy="612360"/>
              <a:chOff x="5028120" y="3048120"/>
              <a:chExt cx="1753560" cy="612360"/>
            </a:xfrm>
          </p:grpSpPr>
          <p:sp>
            <p:nvSpPr>
              <p:cNvPr id="192" name=""/>
              <p:cNvSpPr/>
              <p:nvPr/>
            </p:nvSpPr>
            <p:spPr>
              <a:xfrm>
                <a:off x="62485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81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914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14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914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914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914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14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28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072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04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816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028480" y="457200"/>
              <a:ext cx="1753200" cy="871560"/>
              <a:chOff x="5028480" y="457200"/>
              <a:chExt cx="1753200" cy="87156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8520" y="6699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28480" y="4572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6796080" y="43812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7000" y="2743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11430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16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154720" y="457200"/>
              <a:ext cx="322560" cy="2514600"/>
              <a:chOff x="8154720" y="457200"/>
              <a:chExt cx="322560" cy="2514600"/>
            </a:xfrm>
          </p:grpSpPr>
          <p:sp>
            <p:nvSpPr>
              <p:cNvPr id="214" name=""/>
              <p:cNvSpPr/>
              <p:nvPr/>
            </p:nvSpPr>
            <p:spPr>
              <a:xfrm>
                <a:off x="8154720" y="1524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229600" y="457200"/>
                <a:ext cx="0" cy="2514600"/>
                <a:chOff x="8229600" y="457200"/>
                <a:chExt cx="0" cy="25146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229600" y="45720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29600" y="198144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6935040" y="160020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7621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33960" y="309564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44520" y="207180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A6,- #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1905120"/>
            <a:ext cx="2666880" cy="761760"/>
          </a:xfrm>
          <a:prstGeom prst="rightArrow">
            <a:avLst>
              <a:gd name="adj1" fmla="val 50000"/>
              <a:gd name="adj2" fmla="val 8752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12:12:31Z</cp:lastPrinted>
  <dcterms:modified xsi:type="dcterms:W3CDTF">1998-09-24T12:12:35Z</dcterms:modified>
  <cp:revision>2655</cp:revision>
  <dc:subject>Perl</dc:subject>
  <dc:title>CECS470</dc:title>
</cp:coreProperties>
</file>