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1FD0-EAA9-41BF-9C96-95A45E1B8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440" y="37299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C0B9-1779-499A-899E-5B2E12E4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512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2536-52C6-42D9-B81C-17B7EE8FA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908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62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4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908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62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5E3D-F917-4839-95E6-56991F9E8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3355-8BD8-4922-930F-9E76EF43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39D9-F998-4EC2-8CB8-36E00795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3B03-D638-4F25-B572-AB87F6AA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F9C2-F1CD-47B4-ABC3-D382A766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EDC7-5EEA-4481-900A-1D690B78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F1F8-3829-4A8E-ABCC-D6233865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512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4A6B-4C52-4B46-A1D1-F5FEACFE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E6B6-A105-43A1-A8DC-FFA70887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3851-17AA-4BFD-8C40-75F225A5B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93840" y="88920"/>
            <a:ext cx="8508960" cy="6375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26040" y="6330960"/>
            <a:ext cx="2730600" cy="368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50080" y="6254640"/>
            <a:ext cx="27302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949000" y="6207120"/>
            <a:ext cx="270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ECC250 - Shaa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1400" y="256680"/>
            <a:ext cx="79250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8000 Addressing Mo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7621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524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ddressing modes are concerned about the way that data is accessed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524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ddressing can be by actual address or based on a offset from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 known position.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524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Theoretically, only absolute addressing is required; however, other addressing modes are introduced in order to  improve efficiency.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solute Address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bsolute Addressing uses the actual address of an operand;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ither a memory location  (e.g.,   CLR.B $1234)    or,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f a register is involved, this type is also called data register direct,    e.g.,  MOVE.B  D2,$2000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mediate Address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ith Immediate Addressing, the actual operand is part of the instruction;  e.g.,  MOVE.B  #25,D2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66400" y="14400"/>
            <a:ext cx="57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ad Effective Address,  LEA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1760" y="91404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Instructio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Action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 $0010FFFF,A5           Loads the absolute addre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 (A0),A5                       Loads the contents of another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ress regis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 (12,A0),A5                  Loads the contents of an address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ister plus a displacem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 (12,A0,D4.L),A5        Loads the contents of an address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ister plus a data register plu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displacement (used for index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ressing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01000" y="228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2600" y="361800"/>
            <a:ext cx="800100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"/>
              </a:rPr>
              <a:t>Compare Instruction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6854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 compare instructions subtract the contents of one register (or memory location) from the contents of another register (or memory location) in order to set the CCR (except the X-bit).   The results of the subtraction are discarded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compare instructions include the following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MP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ource operand:  Any of the addressing modes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estination:  Must be a data register.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MP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ource operand:  Any of the addressing modes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estination:  Must be an address register.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MP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ource operand is an immediate value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estination:  Any of the addressing modes except address  register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irect  or immediate.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MP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ompares one memory location with another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nly addressing mode permitted is address register  indirect with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uto- incrementing.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985160" y="903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4905360" cy="30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ompare Instruc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438120"/>
            <a:ext cx="8305920" cy="573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MP  &lt;source&gt;,&lt;destination&gt;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he compare instruction,  CMP &lt;source&gt;,&lt;destination&gt;, subtracts the source operand from the  destination operand and updates the bits of the condition code register (CCR), accordingly.   The result of the subtraction are discarded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MP  or other compare instructions  is usually followed immediately by a conditional branch (e.g., BEQ branch on zero, BNE branch on  zero, BGT branch if greater than, BLT branch if less than, etc).  Consider the high-level construct: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X,D0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MP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Y,D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valuate  X - Y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GE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X_Bigger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If  X  is greater or equal to Y  branch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Q,P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IF  X &lt; Y  THEN  P = Q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RA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it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X_Bigger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MOVE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R,P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IF  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=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Y  THEN  P = R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it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STOP #$270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it point for code-fragment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38360" y="3200400"/>
            <a:ext cx="3170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 X &lt; Y  THEN  P =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SE P =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3200400"/>
            <a:ext cx="3657600" cy="7621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213760" y="16668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cmp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305920" cy="5724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213760" y="903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cmpa" descr=""/>
          <p:cNvPicPr/>
          <p:nvPr/>
        </p:nvPicPr>
        <p:blipFill>
          <a:blip r:embed="rId1"/>
          <a:stretch/>
        </p:blipFill>
        <p:spPr>
          <a:xfrm>
            <a:off x="457200" y="263520"/>
            <a:ext cx="8305920" cy="5904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137440" y="85248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mpm" descr=""/>
          <p:cNvPicPr/>
          <p:nvPr/>
        </p:nvPicPr>
        <p:blipFill>
          <a:blip r:embed="rId1"/>
          <a:stretch/>
        </p:blipFill>
        <p:spPr>
          <a:xfrm>
            <a:off x="685800" y="158760"/>
            <a:ext cx="8077320" cy="5991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001000" y="76212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ditional Branch Instr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5331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entified by mnemonic Bcc where "cc" represents the condition to be checked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 form: Bcc  Address_Label.  If the condition is true, then control will branch to "Address_Label"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nemonic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truction               Branch Taken I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NE               Branch on not equal                   Z=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Q               Branch on equal                         Z=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PL               Branch on not negative              N=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MI               Branch on negative                     N=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CC               Branch on carry clear                C=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CS                Branch on carry set                   C=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VC               Branch on overflow clear          V=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VS                Branch on overflow set              V=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153280" y="22860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Conditional Branch Instructions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or Signed Comparis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nemonic           Instruction                      Branch Taken I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GE           Branch on greater than or equal            ( N=1 AND V=1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   (N = 0 AND V=0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GT           Branch on greater than               (N=1 AND  V=1  AND Z=0)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  (N=0  AND V=0  AND Z=0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E           Branch on less than or equal      Z=1   OR   ( N=1  AND V=0)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   (N=0  AND V =1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T             Branch on less than                             (N=1 AND V=0)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  (N=0  AND V=1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213760" y="903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00040" y="18050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nemonic         Instruction                    Branch Taken If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HS, BCC           Branch on higher than or equal             C=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HI                      Branch on higher than                            C=0  AND   Z=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S                      Branch on less than or equal                  C=1   AND   Z=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O,  BCS          Branch on less than                                  C=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4572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ditional Branch Instruction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 Unsigned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061480" y="3189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137440" y="903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040" y="299520"/>
            <a:ext cx="80010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Unconditional Branch Instruction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7621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 types of unconditional branch instruction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RA    Address_Label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ranches to a statically determined address indicated by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ddress_Label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amples: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RA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EXIT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JMP   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Jump to an address that can be changed during execution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MP (A0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MP D0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1219320"/>
            <a:ext cx="7162920" cy="243828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95240" y="3838680"/>
            <a:ext cx="7925040" cy="22860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22860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7000" y="299520"/>
            <a:ext cx="784836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8000 Addressing Mo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ress Register Indirect Address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is addressing mode uses the 8 address registers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ese registers are assumed to contain the address of the data rather than the data itself.    e.g.   CLR.B  (A0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ress Register Indirect with Post-incremen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 variation of address register indirect in which the operand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ddress is incremented after the operation is performed. The  syntax is     (Ai)+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ress Register Indirect with Pre-decremen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 variation of address register indirect in which the operand is decremented before the operation is performed. The syntax is        -(Ai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213760" y="90360"/>
            <a:ext cx="57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bra" descr=""/>
          <p:cNvPicPr/>
          <p:nvPr/>
        </p:nvPicPr>
        <p:blipFill>
          <a:blip r:embed="rId1"/>
          <a:stretch/>
        </p:blipFill>
        <p:spPr>
          <a:xfrm>
            <a:off x="457200" y="398520"/>
            <a:ext cx="8305920" cy="5421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213760" y="115740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ecial Instructions for Address 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85716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ddress register is specifi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as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stinati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nd, then the following address register instruction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A,     ADDA,     SUBA,     CMP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st be used instead of MOVE, ADD, SUB and CMP,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pectively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ress instructions only apply to words and long word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case of a word operation, the source operand is sign extended to a long word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.g, $0004 becomes $00000004 and $FFF4 becomes  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$FFFFFFF4.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ress instructions do not change any of the bits of the CCR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61480" y="16668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  Min(X,Y) Using Comparis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5331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This program demonstrates how to find the smaller of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* two numbers X and Y using the comparison operator.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*   if (X &lt;= Y) then 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*      D0 := X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*   else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*       D0 := Y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*   X and Y are stored in memory and the result of   the comparison is stored in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*   register D0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$40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rogram origin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B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X,D0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tore X in D0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MP.B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Y,D0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ompare Y and D0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LE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it                           Branch if X &lt;= Y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B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Y,D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therwise, Y is smaller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it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TOP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#$2700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Halt processor at end of program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RG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$1000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X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C.B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C.B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ND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15228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 Comparing Two Memory Block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457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his program compares two blocks of memory.   If the memory is equal, then FF is stored in address register D0, otherwise, 00 is stored.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$400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rogram origin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LEA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Block1,A0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oint to the beginning of memory block 1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LEA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Block2,A1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oint to the beginning of memory block 2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MOVE.W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#Size,D0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Store the long word count in size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LOOP       CMPM.L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(A0)+,(A1)+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Compare the long words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NE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NotEq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ranch if not equal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SUBQ.W      #1,D0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Otherwise, decrement the count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NE             LOOP    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Go back for another comparison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CLR.L         D0       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Two strings are equal so set 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MOVE.B     #$FF,D0   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D0 to FF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RA             Exit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NotEq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CLR.L         D0      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Otherwise, set D0 to 00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Exit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STOP           #$2700          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Size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EQU            2        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Compare 2 words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ORG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$600           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lock1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DC.L          'Bloc',’1234'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lock 1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ORG           $700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lock2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DC.L         'Bloc',’1234 '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lock 2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END           $400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137440" y="16668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00100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 Reversing a St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7621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This program reverses the contents of a string. 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address register A0  points to the beginning of the string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address register A1 points to the end of the string. 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se pointers move towards each other and  swap bytes until the A0 pointer meets or passes A1. 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gister D0 is used for temporary storage.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ORG      $400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rogram origin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* This section moves the A1 pointer to the end (0 character) of the string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LEA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String,A1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oint to the beginning of the string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Loop1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TST.B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(A1)+   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ove to the end of the string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BNE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Loop1                Until the EOS is encountered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SUBA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#1,A1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Back up to the EOS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137440" y="903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:  Reversing a String 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dec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section swaps the bytes at the opposite ends and moves the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dec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 pointers  towards the  middle of the string until they meet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dec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LEA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 String,A0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ake A0 point to the beginning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dec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Loop2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OVE.B   -(A1),D0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Save the bottom byte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dec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MP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A1,A0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If A0 has reached or passed A1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dec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BHS           Exit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Then the string is reversed         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dec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OVE.B   (A0),(A1)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ove the top to the bottom byte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dec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OVE.B   D0,(A0)+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ove the previously saved bottom byte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dec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*                                          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to the top byte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dec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BRA            Loop2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Loop back for another byte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dec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Exit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 #$2700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dec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 $1000       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dec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DS.B           128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Reserve up to 128 bytes for the string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dec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END           $400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137440" y="16668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5715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ress Register Indirect wit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t-incrementing / Pre-decremen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B (A0)+,D3              Byte data addressed by A0 are copied to D3.  Then  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he contents of A0 are incremented by 1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W (A0)+,D3            The word data addressed by A0 are copied to D3.  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hen the contents of  A0 are incremented by 2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L (A0)+,D3              The long word data addressed by A0 are copied to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3. Then the contents  of A0 are incremented by 4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B -(A0),D3              The address stored in A0 is first decremented by 1.          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hen the data addressed are copied to D3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W -(A0),D3             The address stored in A0 is first decremented by 2.   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hen the data  addressed   are copied to D3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L -(A0),D3              The address stored in A0 is first decremented by 4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hen the data addressed are copied to D3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73640" y="304920"/>
            <a:ext cx="20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90080" y="90360"/>
            <a:ext cx="57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Movement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533160"/>
            <a:ext cx="830556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 total of 13 instructions  in all:  MOVE, MOVEA, MOVE to CCR, MOVE to SR, MOVE from SR, MOVE USP, MOVEM,  MOVEQ, MOVEP, LEA, PEA, EXG, SWAP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 copies data from one location to another and may be qualified by ".B" to move 8 bits; ".W" to move 16 bits;  and ".L" to move 32 bits.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 does not change the source location only the destination location.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 updates the CCR: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N  Set  (=1) if the result  (destination) is negative, cleared  (=0) otherwise.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Z Set if the result is zero, cleared otherwise.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V Always  cleared.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 Always cleared.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X Not affected.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VE.B D1,D2            Register to regist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VE.B D1,1234         Register to memory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VE.B 1234,D1         Memory to regist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VE.B 1234,2000      Memory to memory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VE.B #4,D0              Literal to regist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VE.B #4,1234            Literal to memory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66400" y="90360"/>
            <a:ext cx="57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move" descr=""/>
          <p:cNvPicPr/>
          <p:nvPr/>
        </p:nvPicPr>
        <p:blipFill>
          <a:blip r:embed="rId1"/>
          <a:stretch/>
        </p:blipFill>
        <p:spPr>
          <a:xfrm>
            <a:off x="466560" y="444600"/>
            <a:ext cx="8325000" cy="5276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366400" y="14400"/>
            <a:ext cx="57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37920" y="304560"/>
            <a:ext cx="7924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ata Movement Instr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6091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OVEA 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opies a source operand to an address register. May use  only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".W”  and ".L". In the case of ".W", the source  operand is sign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xtended.   No effect on CCR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ource Operand:   All addressing modes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estination Operand:  Address register direct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ove to CCR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opies the lower order byte of the operand to the CCR register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ource Operand: All except address register direct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estination Operand: CCR register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G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xchanges the entire 32-bit contents of two registers. Frequently used to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opy an address register to a data register for processing.  No effect on CCR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ource Operand: Address or data register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estination Operand:  Address or data register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290080" y="90360"/>
            <a:ext cx="57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movea" descr=""/>
          <p:cNvPicPr/>
          <p:nvPr/>
        </p:nvPicPr>
        <p:blipFill>
          <a:blip r:embed="rId1"/>
          <a:stretch/>
        </p:blipFill>
        <p:spPr>
          <a:xfrm>
            <a:off x="452520" y="1055520"/>
            <a:ext cx="8324640" cy="3984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290080" y="90360"/>
            <a:ext cx="57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Data Movement Instruction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1120" y="761760"/>
            <a:ext cx="8076960" cy="457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WAP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changes the upper and lower order words of a data register.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ource Operand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Data regist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estination Operand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N/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CCR set according to resulting register valu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pies an effective address into an address register. 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ource Operand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 except data register, address register direct, address regist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direct with pre-decrement or post-increment or immediat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estination Operand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Address regist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No effect on CCR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290080" y="166680"/>
            <a:ext cx="57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lea" descr=""/>
          <p:cNvPicPr/>
          <p:nvPr/>
        </p:nvPicPr>
        <p:blipFill>
          <a:blip r:embed="rId1"/>
          <a:stretch/>
        </p:blipFill>
        <p:spPr>
          <a:xfrm>
            <a:off x="457200" y="1254240"/>
            <a:ext cx="8381880" cy="3722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8290080" y="243000"/>
            <a:ext cx="57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07T23:03:44Z</dcterms:created>
  <dc:creator>Shaaban</dc:creator>
  <dc:description/>
  <dc:language>en-US</dc:language>
  <cp:lastModifiedBy>Manfred  Deutscher</cp:lastModifiedBy>
  <cp:lastPrinted>1998-10-09T19:56:13Z</cp:lastPrinted>
  <dcterms:modified xsi:type="dcterms:W3CDTF">2001-11-22T20:00:16Z</dcterms:modified>
  <cp:revision>1560</cp:revision>
  <dc:subject>Perl</dc:subject>
  <dc:title>CECS470</dc:title>
</cp:coreProperties>
</file>