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47C-DFBA-4F32-BC14-DE5862DD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F1A-D4B7-4560-98B4-9EC6B1D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80D-66F2-4DD0-AB07-80A83AF8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548-429F-417C-AE2C-E6A79535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CC6-7DAD-416D-AE91-039B24CD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2F3-DB24-47CE-9C46-8DFAD14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F95-5A9F-43AB-8462-97E41AD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6C9-2A42-45E4-A649-E63E5CC3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B84-C441-4438-A104-E7B77182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99E-38D6-4A15-9AE4-D806C31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72D-0405-4323-8EF3-F17CC40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890-2227-45FD-837D-29E01972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AC86-E245-4855-BE92-B8642FAE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352080"/>
            <a:ext cx="79250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uter Organization Lay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6688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mputer may be organized into the following lay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ication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gh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w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ardware - may include microcode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the case of a word processing program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commands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ave, undo, bold, center, etc.) represent the application level language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cal, C/C++ or Java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ow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8000 or Intel x86 assembler or the proper assembly language for the CPU in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520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Operand Size and Storage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68000 uses the following suffixes to identify the size of the instruction’s operand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B     one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W   word  (2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L    long word  (4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68000 memory is byte-addressed; however,  all word and long word operands in memory must start at  an even address.  For this reason the preferred memory map for 68000 assembly programs show a single word (two bytes) in each row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1219320"/>
            <a:ext cx="3586680" cy="1143000"/>
            <a:chOff x="4572000" y="1219320"/>
            <a:chExt cx="3586680" cy="1143000"/>
          </a:xfrm>
        </p:grpSpPr>
        <p:sp>
          <p:nvSpPr>
            <p:cNvPr id="81" name=""/>
            <p:cNvSpPr/>
            <p:nvPr/>
          </p:nvSpPr>
          <p:spPr>
            <a:xfrm>
              <a:off x="4657320" y="1219320"/>
              <a:ext cx="3501360" cy="10994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hen no suffix is specified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n most instruction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ssume   .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1219320"/>
              <a:ext cx="3581280" cy="114300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7200" y="4343400"/>
            <a:ext cx="4572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When storing values in memor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most significant byte is stored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t the first address location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llowed by the remaining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ample:  Store  $AC 35 EF B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memory address $1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43880" y="3809880"/>
            <a:ext cx="3438000" cy="1890720"/>
            <a:chOff x="4943880" y="3809880"/>
            <a:chExt cx="3438000" cy="1890720"/>
          </a:xfrm>
        </p:grpSpPr>
        <p:grpSp>
          <p:nvGrpSpPr>
            <p:cNvPr id="85" name=""/>
            <p:cNvGrpSpPr/>
            <p:nvPr/>
          </p:nvGrpSpPr>
          <p:grpSpPr>
            <a:xfrm>
              <a:off x="5715000" y="4176720"/>
              <a:ext cx="2666880" cy="761400"/>
              <a:chOff x="5715000" y="4176720"/>
              <a:chExt cx="2666880" cy="7614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715000" y="4176720"/>
                <a:ext cx="2666880" cy="380880"/>
                <a:chOff x="5715000" y="4176720"/>
                <a:chExt cx="26668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715000" y="4176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280" y="4176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715000" y="4557600"/>
                <a:ext cx="2666880" cy="380520"/>
                <a:chOff x="5715000" y="4557600"/>
                <a:chExt cx="2666880" cy="3805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715000" y="4557600"/>
                  <a:ext cx="266688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091280" y="4557600"/>
                  <a:ext cx="0" cy="38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5715000" y="4938480"/>
              <a:ext cx="2666880" cy="762120"/>
              <a:chOff x="5715000" y="4938480"/>
              <a:chExt cx="2666880" cy="7621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715000" y="4938480"/>
                <a:ext cx="2666880" cy="381240"/>
                <a:chOff x="5715000" y="4938480"/>
                <a:chExt cx="2666880" cy="38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15000" y="4938480"/>
                  <a:ext cx="2666880" cy="381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91280" y="4938480"/>
                  <a:ext cx="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715000" y="5319720"/>
                <a:ext cx="2666880" cy="380880"/>
                <a:chOff x="5715000" y="5319720"/>
                <a:chExt cx="2666880" cy="380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715000" y="5319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091280" y="5319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6229080" y="380988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  (16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3880" y="4557600"/>
              <a:ext cx="32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0      A      C          3    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5040" y="4952880"/>
              <a:ext cx="32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2      E      F          B     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1280" y="57150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400720"/>
            <a:ext cx="1600200" cy="60948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 of a Simple Motorola 68000 Assembly Language Progra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85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ollowing assembly language program adds together the two 8-bit numbers stored in the memory locations called Value1 and Value2, and deposits the sum in Result.       Result  =  Value1 + Value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400                   Start of program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1,D0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2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.B         D0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D1,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P           #$2700              Stop execu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1000                Start of data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1     DC.B            12                      Store 12 in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2     DC.B           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     DS.B             1                       Reserve a byte for 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           $400                  End of program and entry poi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472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um Using A 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form the sum  1 + 2 + 3+...+ 10  by using a loop, o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0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 COUNTER := 1  TO 10 D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TOTAL  +  COUNTE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can be solved by the following 68000 Assembler cod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          $400         Start of program area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           D1            Set the total initially to 0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#1,D0       Initialize the counter to 1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   ADD.B       D0,D1       Add the counter to the tota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.B      #1,D0        Increment the coun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.B      #11,D0      Check if loop is do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   Next          Go back for another round  if not 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       #$2700      Stop 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1520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asic Assembly Program Stru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is made up of two types of statement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ecutable Instruction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ne of the processor's valid instructions which can be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ranslated into machine code form by the assembl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er Directive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form the assembler about the program and the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vironment and cannot be translated into machine code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ink symbolic names to actual value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et up pre-defined constant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llocate storage for data in memory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rol the assembly process.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81080"/>
            <a:ext cx="6324480" cy="838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367080"/>
            <a:ext cx="7010280" cy="914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3104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EQU Direc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te directive simply links a name to a value in order to make a program easier to read. It does not reserve space in memory.   For 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CK_SP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_RET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 directive may include expressions as well as litrals provided all elements of the expression have already been defin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dth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ea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*Widt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C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9378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directiv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s a consta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is qualified by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B -  to indicate a byte, 8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W -  to indicate a word, 16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L -  to indicate a long word, 32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erand may consist of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decimal number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hexadecimal numbers denoted by a leading '$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binary numbers denoted by a a leading '%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ASCII string enclosed in single quote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expression to be evaluat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abel in the left hand column equates the label with the first address (word)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nstant is loaded into memory at the current loc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S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 stor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irective reserves a storage location in memory but does not store any inform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directive may be qualified by '.B', '.W' or '.L' to indicate bytes, words or long word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operand specifies the number of such quantities to reserve in decimal or hex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tional label equates to the address of the first word of storag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1000         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 DS.B       4 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 DS.W 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       DS.L       4                         Reserve 4 long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LE       DS.W     $10                      Reserve 16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mbler Directives: ORG, END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igin directive sets up the value of the location counter that tracks where the next item will be stored in memory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y be located anywhere in the program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000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DS.B      4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100         Change the memory lo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DS.W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d directive indicates that the end of the code has been reach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onally specifies the place at which to start execution;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., END $040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80460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 assembly language program line or statement is comprised of the following 4 column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label which must begin in column 1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26"/>
              </a:spcBef>
              <a:buClr>
                <a:srgbClr val="000000"/>
              </a:buClr>
              <a:buSzPct val="14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 instruction;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se are the actual instructions themselves, such as MOVE, ADD, etc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pcode fields :  The suffixes `.B', `.W', and `.L' denote a byte, word, and long-word operation, respectively. If not specified, the default  is word size (.W)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ic addressing mode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n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ant or immediat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s of memory loca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ts operand or operands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comment field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962520"/>
            <a:ext cx="4572000" cy="15238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780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ine beginning with an asterisk *  in the first column is a comment and is totally ignored by the assembl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systems are represented as follow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out any prefix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$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ex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%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binary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losing a string in quotes represents a sequence of ASCII charact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one space is required to separate the label and comment field from the instruction; but additional spaces are added for readabilit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data sizes apply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te - 8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ord - 16 bits   (default operand size for most instructions)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ng word - 32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me Basic Assembly Instru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1880" y="865080"/>
            <a:ext cx="16833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#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#Q,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Q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5320" y="865080"/>
            <a:ext cx="66484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register D0 to memory location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memory location Q to register D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number Q to register 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 in D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s in memory location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he content of memory location Q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contents of memory location Q from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register D0 in order to set up the CCR.  Discard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number Q from the contents o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in order to set up the CCR. Discard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the result of the last operation yielded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 operands of the last comparison were not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branch to location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080" y="5349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6640" y="53496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9-11-16T21:46:11Z</cp:lastPrinted>
  <dcterms:modified xsi:type="dcterms:W3CDTF">2001-11-11T18:02:59Z</dcterms:modified>
  <cp:revision>1243</cp:revision>
  <dc:subject>Perl</dc:subject>
  <dc:title>CECS470</dc:title>
</cp:coreProperties>
</file>