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6E0-1153-439D-B977-78DCDF80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685-2702-4BAC-9B16-133829B7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A84-1D90-4E50-9D37-5A82D3CE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111-7433-4D37-A053-7F8D6980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EBB-4B02-45AE-ADA3-B2AB1730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347-DDB6-4511-B14E-3CAA9D54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E8F-0F24-47BC-BBCA-751FC80D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F84-0345-463F-8D22-235956C8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151-8BCE-4CD9-981E-D976F5F8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30B-6003-4767-9140-5BECB892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649-9D85-4A3E-9636-36158D4C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109-5044-4624-A777-C2A26827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36A6-0D22-4EE3-8C65-84FDA9746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47680"/>
            <a:ext cx="815364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ack and Local Subroutin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5331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A Local workspace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of size may be required by a subroutine for temporary private variables when there are insufficient registers to handle the calculations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involves defining the solution of a problem in terms of itself  (i.e  a subroutine calling itself)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 order to use the subroutine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, this workspace may have to be attached to each use or call of the subroutine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 stack frame (SF) is defined as a region of temporary storage in memory of size d bytes at the top of the current stack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pon creating a frame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rame pointer (FP) points to the bottom of the stack frame.   The A6  register is normally used for the frame pointer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ck pointer is updated to point to the top of the fram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 LINK and UNLK instructions are used to facilitate the creation of local subroutine storage as stack fram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LINK  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allocates or destroys a stack frame.   Where An  is the address register used as frame pointer (FP); usually A6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unction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tore the stack pointer to the value in  address register A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.e     SP  =  An      or        SP = SP +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tore   register An  by popping its value from the stack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ncludes post-incrementing SP by 4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ilar in functionality to the following instruction sequenc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(SP),SP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SP)+,A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5305320"/>
            <a:ext cx="3581280" cy="83844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76640" y="12816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LINK Instruction Op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6120" y="609480"/>
            <a:ext cx="3449160" cy="5657760"/>
            <a:chOff x="456120" y="609480"/>
            <a:chExt cx="3449160" cy="5657760"/>
          </a:xfrm>
        </p:grpSpPr>
        <p:grpSp>
          <p:nvGrpSpPr>
            <p:cNvPr id="228" name=""/>
            <p:cNvGrpSpPr/>
            <p:nvPr/>
          </p:nvGrpSpPr>
          <p:grpSpPr>
            <a:xfrm>
              <a:off x="456120" y="3219480"/>
              <a:ext cx="1753560" cy="612360"/>
              <a:chOff x="456120" y="3219480"/>
              <a:chExt cx="175356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1676520" y="34322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6120" y="321948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2219400" y="56005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19400" y="5981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19400" y="47624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19400" y="36194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19400" y="4076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05320" y="123804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19400" y="1466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60800" y="483876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35240" y="41209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445752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38480" y="123804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9680" y="17715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56480" y="628560"/>
              <a:ext cx="1753200" cy="871560"/>
              <a:chOff x="456480" y="628560"/>
              <a:chExt cx="1753200" cy="871560"/>
            </a:xfrm>
          </p:grpSpPr>
          <p:sp>
            <p:nvSpPr>
              <p:cNvPr id="244" name=""/>
              <p:cNvSpPr/>
              <p:nvPr/>
            </p:nvSpPr>
            <p:spPr>
              <a:xfrm>
                <a:off x="1676520" y="84132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6480" y="62856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224080" y="609480"/>
              <a:ext cx="129528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5000" y="29145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09680" y="13143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9680" y="36003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582720" y="628560"/>
              <a:ext cx="322560" cy="2514600"/>
              <a:chOff x="3582720" y="628560"/>
              <a:chExt cx="322560" cy="2514600"/>
            </a:xfrm>
          </p:grpSpPr>
          <p:sp>
            <p:nvSpPr>
              <p:cNvPr id="251" name=""/>
              <p:cNvSpPr/>
              <p:nvPr/>
            </p:nvSpPr>
            <p:spPr>
              <a:xfrm>
                <a:off x="3582720" y="16956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3657600" y="628560"/>
                <a:ext cx="0" cy="2514600"/>
                <a:chOff x="3657600" y="628560"/>
                <a:chExt cx="0" cy="2514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657600" y="628560"/>
                  <a:ext cx="0" cy="99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657600" y="2152800"/>
                  <a:ext cx="0" cy="99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363040" y="177156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09680" y="9334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61960" y="3267000"/>
              <a:ext cx="10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ri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028480" y="752400"/>
            <a:ext cx="3124440" cy="5410080"/>
            <a:chOff x="5028480" y="752400"/>
            <a:chExt cx="3124440" cy="5410080"/>
          </a:xfrm>
        </p:grpSpPr>
        <p:grpSp>
          <p:nvGrpSpPr>
            <p:cNvPr id="259" name=""/>
            <p:cNvGrpSpPr/>
            <p:nvPr/>
          </p:nvGrpSpPr>
          <p:grpSpPr>
            <a:xfrm>
              <a:off x="6857640" y="752400"/>
              <a:ext cx="1295280" cy="442800"/>
              <a:chOff x="6857640" y="752400"/>
              <a:chExt cx="1295280" cy="44280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7640" y="119520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70400" y="7524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857640" y="5495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57640" y="5876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7640" y="46576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8480" y="1285560"/>
              <a:ext cx="166212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just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UNLINK A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4144680"/>
              <a:ext cx="53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04440" y="395280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57640" y="35146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7640" y="3971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43560" y="11332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7640" y="25142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7640" y="31240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7640" y="28335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99040" y="473364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73480" y="40161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48280" y="4352760"/>
              <a:ext cx="129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76720" y="11332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038480" y="2514600"/>
            <a:ext cx="2514600" cy="685800"/>
            <a:chOff x="4038480" y="2514600"/>
            <a:chExt cx="2514600" cy="685800"/>
          </a:xfrm>
        </p:grpSpPr>
        <p:sp>
          <p:nvSpPr>
            <p:cNvPr id="279" name=""/>
            <p:cNvSpPr/>
            <p:nvPr/>
          </p:nvSpPr>
          <p:spPr>
            <a:xfrm>
              <a:off x="4191120" y="2666880"/>
              <a:ext cx="157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LINK 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38480" y="2514600"/>
              <a:ext cx="2514600" cy="685800"/>
            </a:xfrm>
            <a:prstGeom prst="rightArrow">
              <a:avLst>
                <a:gd name="adj1" fmla="val 50000"/>
                <a:gd name="adj2" fmla="val 91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886200" y="4800600"/>
            <a:ext cx="22860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09520" y="4815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3886200"/>
            <a:ext cx="17528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76920" y="1522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F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0,-(SP)     Push parameter #1 onto stack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1,-(SP)     Push parameter #2 onto stack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R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BRT         Jump to subroutine SBR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B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,-#$8      Establish FP and local storag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(A6),D5   Retrieve parameter #1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4,-4(A6)   local  write to stack fr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LK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deallocate stack fr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72400" y="324000"/>
            <a:ext cx="3542400" cy="457200"/>
            <a:chOff x="572400" y="324000"/>
            <a:chExt cx="3542400" cy="457200"/>
          </a:xfrm>
        </p:grpSpPr>
        <p:sp>
          <p:nvSpPr>
            <p:cNvPr id="287" name=""/>
            <p:cNvSpPr/>
            <p:nvPr/>
          </p:nvSpPr>
          <p:spPr>
            <a:xfrm>
              <a:off x="572400" y="324000"/>
              <a:ext cx="35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egment of a main program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9480" y="324000"/>
              <a:ext cx="3505320" cy="45720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14440" y="2405160"/>
            <a:ext cx="3504960" cy="457200"/>
            <a:chOff x="514440" y="2405160"/>
            <a:chExt cx="3504960" cy="457200"/>
          </a:xfrm>
        </p:grpSpPr>
        <p:sp>
          <p:nvSpPr>
            <p:cNvPr id="290" name=""/>
            <p:cNvSpPr/>
            <p:nvPr/>
          </p:nvSpPr>
          <p:spPr>
            <a:xfrm>
              <a:off x="660240" y="2405160"/>
              <a:ext cx="311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egment of a subroutin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4440" y="2405160"/>
              <a:ext cx="3504960" cy="45720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WWR230" descr=""/>
          <p:cNvPicPr/>
          <p:nvPr/>
        </p:nvPicPr>
        <p:blipFill>
          <a:blip r:embed="rId1"/>
          <a:stretch/>
        </p:blipFill>
        <p:spPr>
          <a:xfrm>
            <a:off x="784080" y="304920"/>
            <a:ext cx="5194440" cy="60958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5053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F Example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fect On S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9160" y="2362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1080" y="213372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 A6,-#$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WWR229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3004920" cy="6019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57240" y="22824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ffect of Multipl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routine Calls on Frame Pointers when 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l Stor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It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   D0,-(SP)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ave the initial value of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W    D0,D1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t the result to the input valu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        SUBQ.W      #1,D0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HILE N &gt; 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EQ            Exit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 := N - 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ULU        D0,D1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_N := N * Factorial_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RA           Loop      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 (SP)+,D0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store the value of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523880"/>
            <a:ext cx="44193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(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N = 1 TH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(N) :=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(N) := N * Factorial(N-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64120" y="762120"/>
            <a:ext cx="4589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e factorial of a positive integer is defined as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! = n x (n-1) x (n-2) x (n-3) x .... x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4200" y="152388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eudo co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8920" y="3276720"/>
            <a:ext cx="423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mbly Subroutine using it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68720" y="68580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762120"/>
            <a:ext cx="52578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1523880"/>
            <a:ext cx="5334120" cy="175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Recu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 to compute the factorial of a number using recursive subrout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s.   Parameter passing by value via data register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,D0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get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R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goto factorial rout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0,F_NUMB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store resul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2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C.W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5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;number to be factorializ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_NUMB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S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factorial of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Recu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Initial conditions: D0.W = number to compute factorial o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                  0  &lt;  D0.W &lt; 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Final conditions:   D0.W =  factorial of input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Register usage:      D0.W     destructively us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Sample case:         Input:     D0.W 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                          Output:     D0.W = 1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  D0,-(SP)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sh input number onto stac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Q.W       #1,D0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rement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NE.S           F_CO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ched 1 yet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  (SP)+,D0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, factorial=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S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_CONT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R               FACTOR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, call FACT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U         (SP)+,D0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y only after stac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                  contains al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8840" y="5335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fect On S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24_pic8" descr=""/>
          <p:cNvPicPr/>
          <p:nvPr/>
        </p:nvPicPr>
        <p:blipFill>
          <a:blip r:embed="rId1"/>
          <a:stretch/>
        </p:blipFill>
        <p:spPr>
          <a:xfrm>
            <a:off x="1068480" y="228600"/>
            <a:ext cx="3855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eating Of A Stack Frame of Size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67920" y="662040"/>
            <a:ext cx="3122640" cy="5410080"/>
            <a:chOff x="367920" y="662040"/>
            <a:chExt cx="3122640" cy="5410080"/>
          </a:xfrm>
        </p:grpSpPr>
        <p:grpSp>
          <p:nvGrpSpPr>
            <p:cNvPr id="64" name=""/>
            <p:cNvGrpSpPr/>
            <p:nvPr/>
          </p:nvGrpSpPr>
          <p:grpSpPr>
            <a:xfrm>
              <a:off x="2195280" y="662040"/>
              <a:ext cx="1295280" cy="442800"/>
              <a:chOff x="2195280" y="662040"/>
              <a:chExt cx="1295280" cy="442800"/>
            </a:xfrm>
          </p:grpSpPr>
          <p:sp>
            <p:nvSpPr>
              <p:cNvPr id="65" name=""/>
              <p:cNvSpPr/>
              <p:nvPr/>
            </p:nvSpPr>
            <p:spPr>
              <a:xfrm>
                <a:off x="2195280" y="110484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408040" y="66204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195280" y="5405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95280" y="5786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95280" y="4567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920" y="1195200"/>
              <a:ext cx="171828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just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 subroutine cal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62120" y="4054320"/>
              <a:ext cx="53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2080" y="386244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5280" y="34243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95280" y="38815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81200" y="104292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95280" y="2423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95280" y="3033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5280" y="27432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6680" y="464328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11120" y="392580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5920" y="4262400"/>
              <a:ext cx="129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4360" y="104292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730320" y="1676520"/>
            <a:ext cx="201852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ack just af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reating a stack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rame of size 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n the subrout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81280" y="3048120"/>
            <a:ext cx="2209680" cy="1600200"/>
            <a:chOff x="3581280" y="3048120"/>
            <a:chExt cx="2209680" cy="1600200"/>
          </a:xfrm>
        </p:grpSpPr>
        <p:sp>
          <p:nvSpPr>
            <p:cNvPr id="85" name=""/>
            <p:cNvSpPr/>
            <p:nvPr/>
          </p:nvSpPr>
          <p:spPr>
            <a:xfrm>
              <a:off x="3675240" y="3505320"/>
              <a:ext cx="182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A -4(SP),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A -d(SP),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3048120"/>
              <a:ext cx="2209680" cy="1600200"/>
            </a:xfrm>
            <a:prstGeom prst="rightArrow">
              <a:avLst>
                <a:gd name="adj1" fmla="val 50000"/>
                <a:gd name="adj2" fmla="val 3452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510400" y="230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09360" y="1066680"/>
            <a:ext cx="3277440" cy="5029200"/>
            <a:chOff x="5409360" y="1066680"/>
            <a:chExt cx="3277440" cy="5029200"/>
          </a:xfrm>
        </p:grpSpPr>
        <p:grpSp>
          <p:nvGrpSpPr>
            <p:cNvPr id="89" name=""/>
            <p:cNvGrpSpPr/>
            <p:nvPr/>
          </p:nvGrpSpPr>
          <p:grpSpPr>
            <a:xfrm>
              <a:off x="5485320" y="3048120"/>
              <a:ext cx="1753560" cy="612360"/>
              <a:chOff x="5485320" y="3048120"/>
              <a:chExt cx="1753560" cy="612360"/>
            </a:xfrm>
          </p:grpSpPr>
          <p:sp>
            <p:nvSpPr>
              <p:cNvPr id="90" name=""/>
              <p:cNvSpPr/>
              <p:nvPr/>
            </p:nvSpPr>
            <p:spPr>
              <a:xfrm>
                <a:off x="6705720" y="32608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85320" y="304812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7248600" y="54291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48600" y="5810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48600" y="45910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48600" y="34480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8600" y="390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3452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48600" y="129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48600" y="30574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90000" y="466740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64440" y="39495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8880" y="42861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68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8880" y="16002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409360" y="1295280"/>
              <a:ext cx="1753200" cy="871560"/>
              <a:chOff x="5409360" y="1295280"/>
              <a:chExt cx="1753200" cy="871560"/>
            </a:xfrm>
          </p:grpSpPr>
          <p:sp>
            <p:nvSpPr>
              <p:cNvPr id="106" name=""/>
              <p:cNvSpPr/>
              <p:nvPr/>
            </p:nvSpPr>
            <p:spPr>
              <a:xfrm>
                <a:off x="6629400" y="15080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409360" y="129528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238880" y="1295280"/>
              <a:ext cx="129564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8880" y="29718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8880" y="16765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342900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86800" y="1295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86800" y="281952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2240" y="190512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troying A Stack Fr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6480" y="914400"/>
            <a:ext cx="3277440" cy="5029200"/>
            <a:chOff x="456480" y="914400"/>
            <a:chExt cx="3277440" cy="5029200"/>
          </a:xfrm>
        </p:grpSpPr>
        <p:grpSp>
          <p:nvGrpSpPr>
            <p:cNvPr id="117" name=""/>
            <p:cNvGrpSpPr/>
            <p:nvPr/>
          </p:nvGrpSpPr>
          <p:grpSpPr>
            <a:xfrm>
              <a:off x="532440" y="2895840"/>
              <a:ext cx="1753560" cy="612360"/>
              <a:chOff x="532440" y="2895840"/>
              <a:chExt cx="1753560" cy="612360"/>
            </a:xfrm>
          </p:grpSpPr>
          <p:sp>
            <p:nvSpPr>
              <p:cNvPr id="118" name=""/>
              <p:cNvSpPr/>
              <p:nvPr/>
            </p:nvSpPr>
            <p:spPr>
              <a:xfrm>
                <a:off x="1752840" y="310860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2440" y="289584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95720" y="5276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95720" y="56581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95720" y="44388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95720" y="32958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95720" y="375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164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95720" y="114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95720" y="29052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37120" y="451512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1560" y="379728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0" y="413388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480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0" y="14479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56480" y="1143000"/>
              <a:ext cx="1753200" cy="871560"/>
              <a:chOff x="456480" y="1143000"/>
              <a:chExt cx="1753200" cy="871560"/>
            </a:xfrm>
          </p:grpSpPr>
          <p:sp>
            <p:nvSpPr>
              <p:cNvPr id="134" name=""/>
              <p:cNvSpPr/>
              <p:nvPr/>
            </p:nvSpPr>
            <p:spPr>
              <a:xfrm>
                <a:off x="1676520" y="13557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480" y="114300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286000" y="1143000"/>
              <a:ext cx="129564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28195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6000" y="15242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327672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33920" y="11430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3920" y="266724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9360" y="175284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334480" y="533520"/>
            <a:ext cx="3123360" cy="5410080"/>
            <a:chOff x="5334480" y="533520"/>
            <a:chExt cx="3123360" cy="5410080"/>
          </a:xfrm>
        </p:grpSpPr>
        <p:grpSp>
          <p:nvGrpSpPr>
            <p:cNvPr id="144" name=""/>
            <p:cNvGrpSpPr/>
            <p:nvPr/>
          </p:nvGrpSpPr>
          <p:grpSpPr>
            <a:xfrm>
              <a:off x="7162560" y="533520"/>
              <a:ext cx="1295280" cy="442800"/>
              <a:chOff x="7162560" y="533520"/>
              <a:chExt cx="1295280" cy="442800"/>
            </a:xfrm>
          </p:grpSpPr>
          <p:sp>
            <p:nvSpPr>
              <p:cNvPr id="145" name=""/>
              <p:cNvSpPr/>
              <p:nvPr/>
            </p:nvSpPr>
            <p:spPr>
              <a:xfrm>
                <a:off x="7162560" y="97632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75320" y="53352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7162560" y="5276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560" y="5657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2560" y="44388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4480" y="1066680"/>
              <a:ext cx="149580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destroying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9400" y="3925800"/>
              <a:ext cx="53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09360" y="373392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2560" y="32958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2560" y="375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4848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560" y="2295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560" y="29052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560" y="26146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03960" y="451476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78400" y="379728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3200" y="4133880"/>
              <a:ext cx="129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8164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14440" y="274320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   d(SP),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7200" y="2462040"/>
            <a:ext cx="2362320" cy="990720"/>
          </a:xfrm>
          <a:prstGeom prst="rightArrow">
            <a:avLst>
              <a:gd name="adj1" fmla="val 50000"/>
              <a:gd name="adj2" fmla="val 5961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63640" y="225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0400" y="228240"/>
            <a:ext cx="5486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759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K    An,-# 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ocates or creates a frame in the stack for local use by the subroutine of size d byt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is an address register serving as the frame pointer (FP);  A6 is us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unction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sh the contents of address register  An  onto the stack. (includes pre-decrementing  SP  by  4)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ave the stack pointer in An   (An points to bottom of fram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 the stack pointer by  d  (points to the top o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e fram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milar in functionality to the following instruction sequence: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6,-(SP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P),A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d(SP),S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fter creating the fram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ed parameters are accessed with a positive displacement with respect to (FP), A6   i.e    MOVE.W   8(A6),D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 temporary storage variables are accessed with negative displacement with respect to  A6     i.e.   MOVE.L  D2,-10(A6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733920"/>
            <a:ext cx="335268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299880" y="10008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INK Instruction Op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1960" y="685800"/>
            <a:ext cx="3123360" cy="5410080"/>
            <a:chOff x="381960" y="685800"/>
            <a:chExt cx="3123360" cy="5410080"/>
          </a:xfrm>
        </p:grpSpPr>
        <p:grpSp>
          <p:nvGrpSpPr>
            <p:cNvPr id="171" name=""/>
            <p:cNvGrpSpPr/>
            <p:nvPr/>
          </p:nvGrpSpPr>
          <p:grpSpPr>
            <a:xfrm>
              <a:off x="2209680" y="685800"/>
              <a:ext cx="1295640" cy="442800"/>
              <a:chOff x="2209680" y="685800"/>
              <a:chExt cx="1295640" cy="442800"/>
            </a:xfrm>
          </p:grpSpPr>
          <p:sp>
            <p:nvSpPr>
              <p:cNvPr id="172" name=""/>
              <p:cNvSpPr/>
              <p:nvPr/>
            </p:nvSpPr>
            <p:spPr>
              <a:xfrm>
                <a:off x="2209680" y="112860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23160" y="6858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209680" y="54291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09680" y="58100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9680" y="45910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1960" y="1218960"/>
              <a:ext cx="171828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just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 subroutine cal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efore LIN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0780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480" y="388620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09680" y="344808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09680" y="39052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9560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24476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09680" y="30574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9680" y="27669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1080" y="466704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25880" y="39495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00320" y="42861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2876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028120" y="438120"/>
            <a:ext cx="3449160" cy="5657760"/>
            <a:chOff x="5028120" y="438120"/>
            <a:chExt cx="3449160" cy="5657760"/>
          </a:xfrm>
        </p:grpSpPr>
        <p:grpSp>
          <p:nvGrpSpPr>
            <p:cNvPr id="191" name=""/>
            <p:cNvGrpSpPr/>
            <p:nvPr/>
          </p:nvGrpSpPr>
          <p:grpSpPr>
            <a:xfrm>
              <a:off x="5028120" y="3048120"/>
              <a:ext cx="1753560" cy="612360"/>
              <a:chOff x="5028120" y="3048120"/>
              <a:chExt cx="1753560" cy="612360"/>
            </a:xfrm>
          </p:grpSpPr>
          <p:sp>
            <p:nvSpPr>
              <p:cNvPr id="192" name=""/>
              <p:cNvSpPr/>
              <p:nvPr/>
            </p:nvSpPr>
            <p:spPr>
              <a:xfrm>
                <a:off x="6248520" y="32608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8120" y="304812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91400" y="54291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91400" y="5810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91400" y="45910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91400" y="34480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91400" y="390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7732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1400" y="129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32800" y="466740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07240" y="39495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1680" y="42861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1048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81680" y="16002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028480" y="457200"/>
              <a:ext cx="1753200" cy="871560"/>
              <a:chOff x="5028480" y="457200"/>
              <a:chExt cx="1753200" cy="87156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8520" y="6699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028480" y="45720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6796080" y="438120"/>
              <a:ext cx="129528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77000" y="27432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1680" y="11430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1680" y="342900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154720" y="457200"/>
              <a:ext cx="322560" cy="2514600"/>
              <a:chOff x="8154720" y="457200"/>
              <a:chExt cx="322560" cy="2514600"/>
            </a:xfrm>
          </p:grpSpPr>
          <p:sp>
            <p:nvSpPr>
              <p:cNvPr id="214" name=""/>
              <p:cNvSpPr/>
              <p:nvPr/>
            </p:nvSpPr>
            <p:spPr>
              <a:xfrm>
                <a:off x="8154720" y="1524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229600" y="457200"/>
                <a:ext cx="0" cy="2514600"/>
                <a:chOff x="8229600" y="457200"/>
                <a:chExt cx="0" cy="25146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229600" y="457200"/>
                  <a:ext cx="0" cy="99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229600" y="1981440"/>
                  <a:ext cx="0" cy="99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" name=""/>
            <p:cNvSpPr/>
            <p:nvPr/>
          </p:nvSpPr>
          <p:spPr>
            <a:xfrm>
              <a:off x="6935040" y="160020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1680" y="7621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33960" y="3095640"/>
              <a:ext cx="10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ri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44520" y="207180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 A6,- #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1905120"/>
            <a:ext cx="2666880" cy="761760"/>
          </a:xfrm>
          <a:prstGeom prst="rightArrow">
            <a:avLst>
              <a:gd name="adj1" fmla="val 50000"/>
              <a:gd name="adj2" fmla="val 8752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uhammad Shaaban</cp:lastModifiedBy>
  <cp:lastPrinted>1998-09-24T12:12:31Z</cp:lastPrinted>
  <dcterms:modified xsi:type="dcterms:W3CDTF">1998-09-24T12:12:35Z</dcterms:modified>
  <cp:revision>2655</cp:revision>
  <dc:subject>Perl</dc:subject>
  <dc:title>CECS470</dc:title>
</cp:coreProperties>
</file>