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7D4-DC9D-44D5-9893-45077562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E21-BA1F-451B-AE1F-7D56B827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ECD-217E-495B-A201-59F502E1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4F2-F5D3-4D48-BF06-4629B886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F8D-E98D-4387-9894-2DAF90E2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2E5-E449-44B0-9BE9-18C49941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A6B2-B256-4C51-86B2-B280430E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E2A-5F06-4A2C-8CD0-3F20086D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948-7825-4F3C-B998-263E840C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01D-9757-49B8-95E2-7E367979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AD6-F895-4982-BD67-5F256637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339-F737-4805-A3E4-7075856A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35C3-EC19-4E65-A585-8BD601C49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400" y="25668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Addressing Mo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ddressing modes are concerned about the way that data is accessed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ddressing can be by actual address or based on a offset from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 known position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oretically, only absolute addressing is required; however, other addressing modes are introduced in order to  improve efficiency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olute Address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bsolute Addressing uses the actual address of an operand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ither a memory location  (e.g.,   CLR.B $1234)    or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f a register is involved, this type is also called data register direct,    e.g.,  MOVE.B  D2,$2000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mediate Address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ith Immediate Addressing, the actual operand is part of the instruction;  e.g.,  MOVE.B  #25,D2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6400" y="1440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ad Effective Address,  LEA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struc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ction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$0010FFFF,A5           Loads the absolute addr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(A0),A5                       Loads the contents of another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(12,A0),A5                  Loads the contents of an address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er plus a displace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(12,A0,D4.L),A5        Loads the contents of an address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er plus a data register pl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isplacement (used for index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ing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01000" y="228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2600" y="361800"/>
            <a:ext cx="80010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Compare Instruc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6854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compare instructions subtract the contents of one register (or memory location) from the contents of another register (or memory location) in order to set the CCR (except the X-bit).   The results of the subtraction are discard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ompare instructions include the following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P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ource operand:  Any of the addressing mod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stination:  Must be a data register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P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ource operand:  Any of the addressing mod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stination:  Must be an address register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MP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ource operand is an immediate value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stination:  Any of the addressing modes except address  regis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irect  or immediate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P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ompares one memory location with anoth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nly addressing mode permitted is address register  indirect with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uto- incrementing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8516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4905360" cy="3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mpare Instru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38120"/>
            <a:ext cx="8305920" cy="57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MP  &lt;source&gt;,&lt;destination&gt;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 compare instruction,  CMP &lt;source&gt;,&lt;destination&gt;, subtracts the source operand from the  destination operand and updates the bits of the condition code register (CCR), accordingly.   The result of the subtraction are discard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MP  or other compare instructions  is usually followed immediately by a conditional branch (e.g., BEQ branch on zero, BNE branch on  zero, BGT branch if greater than, BLT branch if less than, etc).  Consider the high-level construct: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,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MP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valuate  X - 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G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_Bigger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 X  is greater or equal to Y  branch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Q,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 X &lt; Y  THEN  P = Q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RA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_Bigger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,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 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=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  THEN  P = 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STOP 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 point for code-fragmen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38360" y="3200400"/>
            <a:ext cx="317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 X &lt; Y  THEN  P =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E P =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3200400"/>
            <a:ext cx="3657600" cy="7621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13760" y="166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mp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724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1376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mpa" descr=""/>
          <p:cNvPicPr/>
          <p:nvPr/>
        </p:nvPicPr>
        <p:blipFill>
          <a:blip r:embed="rId1"/>
          <a:stretch/>
        </p:blipFill>
        <p:spPr>
          <a:xfrm>
            <a:off x="457200" y="263520"/>
            <a:ext cx="8305920" cy="5904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137440" y="8524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mpm" descr=""/>
          <p:cNvPicPr/>
          <p:nvPr/>
        </p:nvPicPr>
        <p:blipFill>
          <a:blip r:embed="rId1"/>
          <a:stretch/>
        </p:blipFill>
        <p:spPr>
          <a:xfrm>
            <a:off x="685800" y="158760"/>
            <a:ext cx="8077320" cy="59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001000" y="7621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ditional Branch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ied by mnemonic Bcc where "cc" represents the condition to be check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form: Bcc  Address_Label.  If the condition is true, then control will branch to "Address_Label"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emonic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ction               Branch Taken 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NE               Branch on not equal                   Z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Q               Branch on equal                         Z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PL               Branch on not negative              N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I               Branch on negative                     N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C               Branch on carry clear                C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S                Branch on carry set                   C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VC               Branch on overflow clear          V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VS                Branch on overflow set              V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53280" y="2286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onditional Branch Instructions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r Signed Comparis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emonic           Instruction                      Branch Taken 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GE           Branch on greater than or equal            ( N=1 AND V=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  (N = 0 AND V=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GT           Branch on greater than               (N=1 AND  V=1  AND Z=0)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 (N=0  AND V=0  AND Z=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E           Branch on less than or equal      Z=1   OR   ( N=1  AND V=0)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  (N=0  AND V =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T             Branch on less than                             (N=1 AND V=0)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 (N=0  AND V=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1376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00040" y="18050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nemonic         Instruction                    Branch Taken If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HS, BCC           Branch on higher than or equal             C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HI                      Branch on higher than                            C=0  AND   Z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S                      Branch on less than or equal                  C=1   AND   Z=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,  BCS          Branch on less than                                  C=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ditional Branch Instruc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Unsigned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61480" y="318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3744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299520"/>
            <a:ext cx="8001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Unconditional Branch Instruc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types of unconditional branch instruc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A    Address_Label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anches to a statically determined address indicated b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ddress_Label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s: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EXI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MP  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ump to an address that can be changed during execu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MP (A0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MP D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1219320"/>
            <a:ext cx="7162920" cy="243828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5240" y="3838680"/>
            <a:ext cx="7925040" cy="22860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2286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000" y="299520"/>
            <a:ext cx="78483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Addressing Mo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 Indirect Address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addressing mode uses the 8 address register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se registers are assumed to contain the address of the data rather than the data itself.    e.g.   CLR.B  (A0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 Indirect with Post-incremen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variation of address register indirect in which the operand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ddress is incremented after the operation is performed. The  syntax is     (Ai)+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 Indirect with Pre-decremen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variation of address register indirect in which the operand is decremented before the operation is performed. The syntax is        -(Ai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1376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ra" descr=""/>
          <p:cNvPicPr/>
          <p:nvPr/>
        </p:nvPicPr>
        <p:blipFill>
          <a:blip r:embed="rId1"/>
          <a:stretch/>
        </p:blipFill>
        <p:spPr>
          <a:xfrm>
            <a:off x="457200" y="398520"/>
            <a:ext cx="8305920" cy="5421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13760" y="11574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al Instructions for Address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8571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dress register is specifi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a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stin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, then the following address register instruc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A,     ADDA,     SUBA,     CMP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t be used instead of MOVE, ADD, SUB and CMP,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ectively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instructions only apply to words and long word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case of a word operation, the source operand is sign extended to a long word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.g, $0004 becomes $00000004 and $FFF4 becomes 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FFFFFFF4.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instructions do not change any of the bits of the CCR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61480" y="166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  Min(X,Y) Using Comparis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5331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his program demonstrates how to find the smaller of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two numbers X and Y using the comparison operator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if (X &lt;= Y) then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   D0 := X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els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    D0 := 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X and Y are stored in memory and the result of   the comparison is stored in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register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ogram origin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,D0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re X in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MP.B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,D0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ompare Y and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LE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                           Branch if X &lt;= 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therwise, Y is small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#$2700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alt processor at end of program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$10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ND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522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 Comparing Two Memory Bl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is program compares two blocks of memory.   If the memory is equal, then FF is stored in address register D0, otherwise, 00 is stored.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$40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gram origin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Block1,A0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oint to the beginning of memory block 1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Block2,A1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oint to the beginning of memory block 2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OVE.W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#Size,D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tore the long word count in size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OOP       CMPM.L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(A0)+,(A1)+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ompare the long words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NotEq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ranch if not equal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UBQ.W      #1,D0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therwise, decrement the count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NE             LOOP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o back for another comparison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LR.L         D0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wo strings are equal so set 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OVE.B     #$FF,D0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D0 to FF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RA             Exit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NotEq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LR.L         D0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therwise, set D0 to 00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TOP           #$2700          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QU            2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ompare 2 words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RG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$600           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lock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C.L          'Bloc',’1234'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lock 1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RG           $700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lock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C.L         'Bloc',’1234 '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lock 2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ND           $400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37440" y="166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Reversing a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is program reverses the contents of a string.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address register A0  points to the beginning of the string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address register A1 points to the end of the string.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se pointers move towards each other and  swap bytes until the A0 pointer meets or passes A1.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ister D0 is used for temporary storage.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ORG      $400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rogram origin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* This section moves the A1 pointer to the end (0 character) of the string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tring,A1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oint to the beginning of the string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op1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ST.B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(A1)+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 to the end of the string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op1                Until the EOS is encountered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UB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#1,A1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ack up to the EOS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3744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Reversing a String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ection swaps the bytes at the opposite ends and moves th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pointers  towards the  middle of the string until they meet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String,A0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ake A0 point to the beginning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op2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.B   -(A1),D0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ave the bottom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MP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A1,A0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f A0 has reached or passed A1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HS           Exit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n the string is reversed  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.B   (A0),(A1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 the top to the bottom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.B   D0,(A0)+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 the previously saved bottom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o the top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RA            Loop2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op back for another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#$2700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$1000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S.B           128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Reserve up to 128 bytes for the string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ND           $400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37440" y="166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 Indirect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-incrementing / Pre-decrem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 (A0)+,D3              Byte data addressed by A0 are copied to D3.  Then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 contents of A0 are incremented by 1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W (A0)+,D3            The word data addressed by A0 are copied to D3.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n the contents of  A0 are incremented by 2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(A0)+,D3              The long word data addressed by A0 are copied to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3. Then the contents  of A0 are incremented by 4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 -(A0),D3              The address stored in A0 is first decremented by 1.        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n the data addressed are copied to D3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W -(A0),D3             The address stored in A0 is first decremented by 2. 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n the data  addressed   are copied to D3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-(A0),D3              The address stored in A0 is first decremented by 4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n the data addressed are copied to D3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3640" y="30492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9008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Movement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53316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 total of 13 instructions  in all:  MOVE, MOVEA, MOVE to CCR, MOVE to SR, MOVE from SR, MOVE USP, MOVEM,  MOVEQ, MOVEP, LEA, PEA, EXG, SWAP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 copies data from one location to another and may be qualified by ".B" to move 8 bits; ".W" to move 16 bits;  and ".L" to move 32 bits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 does not change the source location only the destination location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 updates the CCR: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  Set  (=1) if the result  (destination) is negative, cleared  (=0) otherwise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Z Set if the result is zero, cleared otherwise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V Always  cleared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 Always cleared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 Not affected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D1,D2            Register to regis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D1,1234         Register to memo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1234,D1         Memory to regis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1234,2000      Memory to memo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#4,D0              Literal to regis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#4,1234            Literal to memo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6640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ove" descr=""/>
          <p:cNvPicPr/>
          <p:nvPr/>
        </p:nvPicPr>
        <p:blipFill>
          <a:blip r:embed="rId1"/>
          <a:stretch/>
        </p:blipFill>
        <p:spPr>
          <a:xfrm>
            <a:off x="466560" y="444600"/>
            <a:ext cx="8325000" cy="5276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66400" y="1440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7920" y="304560"/>
            <a:ext cx="7924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ta Movement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VEA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ies a source operand to an address register. May use  only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".W”  and ".L". In the case of ".W", the source  operand is sign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tended.   No effect on CC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ource Operand:   All addressing modes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stination Operand:  Address register direct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ve to CCR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ies the lower order byte of the operand to the CCR registe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ource Operand: All except address register direct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stination Operand: CCR registe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G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changes the entire 32-bit contents of two registers. Frequently used to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an address register to a data register for processing.  No effect on CC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ource Operand: Address or data registe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stination Operand:  Address or data registe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9008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movea" descr=""/>
          <p:cNvPicPr/>
          <p:nvPr/>
        </p:nvPicPr>
        <p:blipFill>
          <a:blip r:embed="rId1"/>
          <a:stretch/>
        </p:blipFill>
        <p:spPr>
          <a:xfrm>
            <a:off x="452520" y="1055520"/>
            <a:ext cx="8324640" cy="3984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9008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ata Movement Instruc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1120" y="761760"/>
            <a:ext cx="8076960" cy="457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WAP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hanges the upper and lower order words of a data register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ource Operan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Data regis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stination Operan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N/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CR set according to resulting register valu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pies an effective address into an address register.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ource Operand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except data register, address register direct, address regis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irect with pre-decrement or post-increment or immedia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stination Operan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Address regis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o effect on CC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90080" y="16668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lea" descr=""/>
          <p:cNvPicPr/>
          <p:nvPr/>
        </p:nvPicPr>
        <p:blipFill>
          <a:blip r:embed="rId1"/>
          <a:stretch/>
        </p:blipFill>
        <p:spPr>
          <a:xfrm>
            <a:off x="457200" y="1254240"/>
            <a:ext cx="8381880" cy="3722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90080" y="24300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anfred  Deutscher</cp:lastModifiedBy>
  <cp:lastPrinted>1998-10-09T19:56:13Z</cp:lastPrinted>
  <dcterms:modified xsi:type="dcterms:W3CDTF">2001-11-22T20:00:16Z</dcterms:modified>
  <cp:revision>1560</cp:revision>
  <dc:subject>Perl</dc:subject>
  <dc:title>CECS470</dc:title>
</cp:coreProperties>
</file>