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913938" cy="674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2FC-45D2-4F19-BC02-117FA416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D85-403A-4A83-9B34-6E527FA4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ABC-640B-4DC2-97F9-E7B40AC2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F22-563B-46E7-B47C-CCF8E92D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F7C-0CAB-44DE-B962-F9170CE1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5FB-A090-4130-A2F6-12185088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41A-7040-4D35-B3C9-2EF8A038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C65-C19C-42C5-95A6-B057F669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654-1C89-4A62-A964-FC510F00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D9A-E1B2-4556-901E-EA93A864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CF1-43F8-47A9-9467-6A95A912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D18-130E-4499-AABE-3A77AF48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5BAB-7124-449A-8F90-3C48986E3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28600"/>
            <a:ext cx="8153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68000 CPU and Assembl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roduction 68000.ppt  part-I      1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.Neumann to 6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PU 6800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gistersystem 6800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roduction 68000.ppt  part-II    13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gf. Assembler.Introduction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ressierungstechnik-1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ressierungstechnik-2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ressing Mode &amp; Instructions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thmetic Instructions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roman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broutines &amp; Stack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roman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VII) ggf. Stack related Instructions &amp;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roman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. Deutscher-Tie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th Selceted Slides from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us Register: Condition Code Regi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41008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28800" y="3057480"/>
            <a:ext cx="5181480" cy="3090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20640" y="60948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C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15200" y="6508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tatus Register: The System Par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77120" cy="4760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15200" y="8031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8487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cription of 68000 Regi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2800" y="49500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 Counter (PC) - points to the next instruction to be executed (24 bits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l Purpose Registers - D0 through D7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alled "general purpose" because registers can each perform the same range of functions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32 bits wide, but can be divided into 2 words or 4 bytes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its in the data register have an arbitrary meaning; e.g., two's complement number, unsigned integer,  or ASCII  characters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Word operations applied to these registers can only use the low order 16 bits (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…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yte operations applied to these registers can only use the low order 8 bits (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…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dress Registers - A0 through A7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alled "address registers" because they are always used to store the address of a memory location.   32 bits wide, but cannot be subdivided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0 through A6 can be used as you see fit; however, A7 is the stack pointer which is needed to keep track of subroutine return addresses. Therefore, you should not use A7 explicitly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CR Register   Contains the following flags: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     eXtend flag (similar to the carry flag)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-   Negative flag - true if first bit 1   (sign bit  or MSB of result is =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     Zero flag - true if all bits 0   (result is equal to zero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     oVerflow flag    (2’s complement overflow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 - Carry flag   (carry out bit from an arithmetic operation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ertain operations effect all bits; e.g., arithmetic.   Certain operations effect only some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ts ( e.g., Logical operations do not effect overflow or carry).  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ertain operations do not effect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y  of the bits (e.g., exchange registers)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91520" y="117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2710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r Instruction Set Architecture (ISA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amp; Assembl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struction Set Architecture (ISA) of the Microprocessor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y language programmer's view of the processor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achine Code: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PU language comprised of computer instructions that controls the primitive operations on binary data within the computer, including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ata movement and copying instruc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rithmetic operations (e.g., addition and subtraction);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gic instructions:  AND, OR, XOR, shift operations,  etc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ntrol instructions:  Jumps, Branchin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y Language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Human-readable representation of the binary code executed by the computer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571760"/>
            <a:ext cx="6781680" cy="5331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31040" y="6094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asic computer operation and organiz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94284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omputer manipulates binary coded data and responds to events occurring in the external world (users, other devices, network).   This is called a stored-program or von-Neumann machine architectu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ry is used to store both programs and data instructions (this is the core of the von-Neumann architecture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 instructions are binary coded data which tell the computer to do something,  i.e. add two numbers togeth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is simply information to be used by the program, i.e. two numbers to be  added togeth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entral processing unit (CPU) with the following tasks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tching instruction(s) and/or data from memo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oding the instruction(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ing the indicated sequence of oper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00040" y="4786200"/>
            <a:ext cx="6096240" cy="129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3320" y="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81080"/>
            <a:ext cx="80773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Von-Neumann Computer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600" y="49536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tioning of the computing engine into component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 Processing Unit (CPU): Control Unit (instruction decode , sequencing of operations), Datapath (registers, arithmetic and logic unit, buses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mory:  Instruction and operand stor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put/Output (I/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tored program concept: Instructions from an instruction set are fetched from a common memory and executed one at a ti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231920" y="2827440"/>
            <a:ext cx="6832440" cy="3327120"/>
            <a:chOff x="1231920" y="2827440"/>
            <a:chExt cx="6832440" cy="3327120"/>
          </a:xfrm>
        </p:grpSpPr>
        <p:sp>
          <p:nvSpPr>
            <p:cNvPr id="53" name=""/>
            <p:cNvSpPr/>
            <p:nvPr/>
          </p:nvSpPr>
          <p:spPr>
            <a:xfrm>
              <a:off x="3898800" y="3132000"/>
              <a:ext cx="1270080" cy="1041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98800" y="4427640"/>
              <a:ext cx="1270080" cy="1041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12800" y="3132000"/>
              <a:ext cx="1270080" cy="2260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58160" y="3911760"/>
              <a:ext cx="12639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(instruction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data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20120" y="3378240"/>
              <a:ext cx="1035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2720" y="4521240"/>
              <a:ext cx="12078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LU, bus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70200" y="2979720"/>
              <a:ext cx="1727280" cy="2946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8240" y="5511960"/>
              <a:ext cx="77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1920" y="2827440"/>
              <a:ext cx="6832440" cy="332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74760" y="5587920"/>
              <a:ext cx="2146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uter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4262400"/>
              <a:ext cx="762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6165720" y="2979720"/>
              <a:ext cx="1727280" cy="3005640"/>
              <a:chOff x="6165720" y="2979720"/>
              <a:chExt cx="1727280" cy="3005640"/>
            </a:xfrm>
          </p:grpSpPr>
          <p:sp>
            <p:nvSpPr>
              <p:cNvPr id="65" name=""/>
              <p:cNvSpPr/>
              <p:nvPr/>
            </p:nvSpPr>
            <p:spPr>
              <a:xfrm>
                <a:off x="6394320" y="4503600"/>
                <a:ext cx="1270080" cy="104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394320" y="3132000"/>
                <a:ext cx="1270080" cy="104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592680" y="3454560"/>
                <a:ext cx="794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p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515280" y="4826160"/>
                <a:ext cx="979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utp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165720" y="2979720"/>
                <a:ext cx="1727280" cy="2946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86680" y="5587920"/>
                <a:ext cx="1436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/O Devi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5376960" y="4338720"/>
              <a:ext cx="761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8443800" y="414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ntral Processing Unit (CPU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odes the program instructio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s a program counter which contains the location of the next instruction to be execut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s a status register which monitors the execution of instructions and keeps track of overflows, carries, borrows, etc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rithmetic Logic Un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ries out the logic and arithmetic operations as required for instructions decoded by the control un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gister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 counter, status registers, stack pointer for subroutine u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number of general-purpose registers accessed by instructions to store addresses, instruction operands, and ALU resul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676520" y="790560"/>
            <a:ext cx="5715000" cy="914400"/>
            <a:chOff x="1676520" y="790560"/>
            <a:chExt cx="5715000" cy="914400"/>
          </a:xfrm>
        </p:grpSpPr>
        <p:grpSp>
          <p:nvGrpSpPr>
            <p:cNvPr id="76" name=""/>
            <p:cNvGrpSpPr/>
            <p:nvPr/>
          </p:nvGrpSpPr>
          <p:grpSpPr>
            <a:xfrm>
              <a:off x="1676520" y="790560"/>
              <a:ext cx="5715000" cy="914400"/>
              <a:chOff x="1676520" y="790560"/>
              <a:chExt cx="5715000" cy="914400"/>
            </a:xfrm>
          </p:grpSpPr>
          <p:sp>
            <p:nvSpPr>
              <p:cNvPr id="77" name=""/>
              <p:cNvSpPr/>
              <p:nvPr/>
            </p:nvSpPr>
            <p:spPr>
              <a:xfrm>
                <a:off x="1676520" y="790560"/>
                <a:ext cx="57150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81080" y="942840"/>
                <a:ext cx="1031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429360" y="866520"/>
                <a:ext cx="2133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rithmetic Logi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nit (ALU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27760" y="1033200"/>
                <a:ext cx="118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gist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200760" y="790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39040" y="790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8307000" y="1522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9120" y="213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Vertical Grid Organization of Mem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308480" cy="4343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459640" y="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1868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uter Data Storage Uni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890280"/>
            <a:ext cx="8305560" cy="53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Smallest quantity of information that can be manipulated inside a computer; its value is either 0 or 1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Defined to be a group of 8 bits; and typically the minimum size required to store a characte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 Basic unit of information stored in memory and processed by a computer.  Typical computer word lengths are 16, 32 and 64 bi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68000, a word is 16-bits , and a long word is 32 bi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s and long words in the 68000 must start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n memory addres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e.g.   $1000  is allowed, but $1001 produces a memory alignment error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43800" y="11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8000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629400" cy="4983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67480" y="1936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7040" y="219240"/>
            <a:ext cx="571500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04880" y="4179960"/>
            <a:ext cx="6015240" cy="1952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840" y="538200"/>
            <a:ext cx="3161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8000 Pinou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5440" y="500040"/>
            <a:ext cx="3276360" cy="838080"/>
          </a:xfrm>
          <a:prstGeom prst="rect">
            <a:avLst/>
          </a:prstGeom>
          <a:noFill/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91160" y="11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5105520" cy="525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38320" y="228600"/>
            <a:ext cx="3048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giste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4724640" cy="2413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4800600" cy="2171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33520" y="5181480"/>
            <a:ext cx="4876560" cy="609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3520" y="5819760"/>
            <a:ext cx="4829040" cy="496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19810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960" y="312408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8360" y="51814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ck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79132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220968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620120" y="426672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09720" y="60958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720" y="541008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62720" y="335268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360" y="45720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52280"/>
            <a:ext cx="304812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62560" y="11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deutsch</cp:lastModifiedBy>
  <cp:lastPrinted>1999-11-16T21:46:11Z</cp:lastPrinted>
  <dcterms:modified xsi:type="dcterms:W3CDTF">2008-04-08T15:04:47Z</dcterms:modified>
  <cp:revision>1251</cp:revision>
  <dc:subject>Perl</dc:subject>
  <dc:title>CECS470</dc:title>
</cp:coreProperties>
</file>