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30D-F8DE-41C0-BFF7-C20DAE56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165-2194-4C97-A326-74543A1D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D14-858C-40BE-941B-9ACF01E6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E26-246A-43BA-9A71-8C8CD306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0F5-0D15-4948-97C9-96A0879A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EBB-EE17-4AC7-A457-834044B1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D20-4267-4481-A49B-D39DD490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A5A-C647-4BCB-8C7E-957D53D4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3F5-5FA2-473D-B34C-61469EB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B08-F255-44E7-9E88-D4C3C86C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395-DA4C-4A21-8AC8-091E416D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40A-9912-439A-8F6D-774F883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9880-42F0-4B97-85FC-B60FD3444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Stack-Related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EA   &lt;EA&gt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ush Effective Address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ulates an effective address &lt;ea&gt; and pushes it onto the stack pointed at by address register A7 (the stack pointer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ce between PEA and L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A loads an effective address in any address regist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A pushes it onto the stack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 &lt;EA&gt;     is equivalent t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EA&gt;,A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i,-(A7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re Ai  is an address register other than A7  (A0-A6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648320"/>
            <a:ext cx="342900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8000 Addressing Modes Revisited:</a:t>
            </a:r>
            <a:br>
              <a:rPr sz="3000"/>
            </a:br>
            <a:br>
              <a:rPr sz="6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dress Register Indirect Addressing with Dis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ddressing nota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6(A0)       or     (d16,A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fers to the address contained  in register A0  plus a signed 16 bit displacement d16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me assembles accept only one of the above syntax form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.L (12,A4),D3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MOVE.L 12(A4),D3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.W (-$4,A1),D0         or        MOVE.W -$4(A1),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8600"/>
            <a:ext cx="7391520" cy="15238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Using The Stack  -  Main Program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7200" y="96696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base  B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,D2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t exponent number into D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exponent E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SP)+,D3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p answer from stack resetting SP                 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 ans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The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-  Subrouti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MOVE.W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6(SP)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base  from stack 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(SP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from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4(SP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sh result onto the stack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1000" y="152280"/>
            <a:ext cx="3431520" cy="3110040"/>
            <a:chOff x="531000" y="152280"/>
            <a:chExt cx="3431520" cy="3110040"/>
          </a:xfrm>
        </p:grpSpPr>
        <p:grpSp>
          <p:nvGrpSpPr>
            <p:cNvPr id="121" name=""/>
            <p:cNvGrpSpPr/>
            <p:nvPr/>
          </p:nvGrpSpPr>
          <p:grpSpPr>
            <a:xfrm>
              <a:off x="2666880" y="1052640"/>
              <a:ext cx="1295640" cy="2209680"/>
              <a:chOff x="2666880" y="1052640"/>
              <a:chExt cx="1295640" cy="2209680"/>
            </a:xfrm>
          </p:grpSpPr>
          <p:sp>
            <p:nvSpPr>
              <p:cNvPr id="122" name=""/>
              <p:cNvSpPr/>
              <p:nvPr/>
            </p:nvSpPr>
            <p:spPr>
              <a:xfrm>
                <a:off x="2666880" y="105264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62520" y="105264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666880" y="12812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2576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29574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666880" y="457200"/>
              <a:ext cx="1295640" cy="442800"/>
              <a:chOff x="2666880" y="457200"/>
              <a:chExt cx="1295640" cy="442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666880" y="9000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80360" y="4572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057400" y="1981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6880" y="1828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000" y="15228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75248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22096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6200" y="2209680"/>
              <a:ext cx="813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as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3480" y="1828800"/>
              <a:ext cx="1270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ponent 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7360" y="2514600"/>
              <a:ext cx="12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104080" y="3505320"/>
            <a:ext cx="3354120" cy="2705040"/>
            <a:chOff x="5104080" y="3505320"/>
            <a:chExt cx="3354120" cy="2705040"/>
          </a:xfrm>
        </p:grpSpPr>
        <p:grpSp>
          <p:nvGrpSpPr>
            <p:cNvPr id="140" name=""/>
            <p:cNvGrpSpPr/>
            <p:nvPr/>
          </p:nvGrpSpPr>
          <p:grpSpPr>
            <a:xfrm>
              <a:off x="7148520" y="3505320"/>
              <a:ext cx="1295280" cy="442800"/>
              <a:chOff x="7148520" y="3505320"/>
              <a:chExt cx="1295280" cy="442800"/>
            </a:xfrm>
          </p:grpSpPr>
          <p:sp>
            <p:nvSpPr>
              <p:cNvPr id="141" name=""/>
              <p:cNvSpPr/>
              <p:nvPr/>
            </p:nvSpPr>
            <p:spPr>
              <a:xfrm>
                <a:off x="7148520" y="394812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61280" y="35053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162920" y="4000680"/>
              <a:ext cx="1295280" cy="2209680"/>
              <a:chOff x="7162920" y="4000680"/>
              <a:chExt cx="1295280" cy="2209680"/>
            </a:xfrm>
          </p:grpSpPr>
          <p:sp>
            <p:nvSpPr>
              <p:cNvPr id="144" name=""/>
              <p:cNvSpPr/>
              <p:nvPr/>
            </p:nvSpPr>
            <p:spPr>
              <a:xfrm>
                <a:off x="7162920" y="400068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58200" y="400068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162920" y="4229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920" y="55245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5905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920" y="4776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4080" y="3786120"/>
              <a:ext cx="146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d of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5157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6912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5334120"/>
              <a:ext cx="143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67200" y="509760"/>
            <a:ext cx="3514680" cy="3109320"/>
            <a:chOff x="4867200" y="509760"/>
            <a:chExt cx="3514680" cy="3109320"/>
          </a:xfrm>
        </p:grpSpPr>
        <p:sp>
          <p:nvSpPr>
            <p:cNvPr id="155" name=""/>
            <p:cNvSpPr/>
            <p:nvPr/>
          </p:nvSpPr>
          <p:spPr>
            <a:xfrm>
              <a:off x="4941000" y="50976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af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077240" y="1409760"/>
              <a:ext cx="1295280" cy="2209320"/>
              <a:chOff x="7077240" y="1409760"/>
              <a:chExt cx="1295280" cy="2209320"/>
            </a:xfrm>
          </p:grpSpPr>
          <p:sp>
            <p:nvSpPr>
              <p:cNvPr id="157" name=""/>
              <p:cNvSpPr/>
              <p:nvPr/>
            </p:nvSpPr>
            <p:spPr>
              <a:xfrm>
                <a:off x="7077240" y="1409760"/>
                <a:ext cx="0" cy="22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72520" y="1409760"/>
                <a:ext cx="0" cy="22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077240" y="15001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7240" y="2933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77240" y="1861920"/>
              <a:ext cx="12952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077240" y="814320"/>
              <a:ext cx="1295280" cy="442440"/>
              <a:chOff x="7077240" y="814320"/>
              <a:chExt cx="1295280" cy="442440"/>
            </a:xfrm>
          </p:grpSpPr>
          <p:sp>
            <p:nvSpPr>
              <p:cNvPr id="163" name=""/>
              <p:cNvSpPr/>
              <p:nvPr/>
            </p:nvSpPr>
            <p:spPr>
              <a:xfrm>
                <a:off x="7077240" y="1256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90000" y="8143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467400" y="16383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77240" y="2185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7200" y="142380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77240" y="2566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6200" y="2566800"/>
              <a:ext cx="813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as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53840" y="2185920"/>
              <a:ext cx="1270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ponent 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67400" y="31003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95160" y="287172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13680" y="149544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86600" y="3271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706720" y="1881000"/>
              <a:ext cx="308880" cy="990000"/>
              <a:chOff x="5706720" y="1881000"/>
              <a:chExt cx="308880" cy="990000"/>
            </a:xfrm>
          </p:grpSpPr>
          <p:sp>
            <p:nvSpPr>
              <p:cNvPr id="176" name=""/>
              <p:cNvSpPr/>
              <p:nvPr/>
            </p:nvSpPr>
            <p:spPr>
              <a:xfrm>
                <a:off x="5857920" y="25664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57920" y="188100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6720" y="2109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531360" y="3276720"/>
            <a:ext cx="3454920" cy="3109680"/>
            <a:chOff x="531360" y="3276720"/>
            <a:chExt cx="3454920" cy="3109680"/>
          </a:xfrm>
        </p:grpSpPr>
        <p:grpSp>
          <p:nvGrpSpPr>
            <p:cNvPr id="180" name=""/>
            <p:cNvGrpSpPr/>
            <p:nvPr/>
          </p:nvGrpSpPr>
          <p:grpSpPr>
            <a:xfrm>
              <a:off x="2666880" y="4176720"/>
              <a:ext cx="1295640" cy="2209680"/>
              <a:chOff x="2666880" y="4176720"/>
              <a:chExt cx="1295640" cy="2209680"/>
            </a:xfrm>
          </p:grpSpPr>
          <p:sp>
            <p:nvSpPr>
              <p:cNvPr id="181" name=""/>
              <p:cNvSpPr/>
              <p:nvPr/>
            </p:nvSpPr>
            <p:spPr>
              <a:xfrm>
                <a:off x="2666880" y="417672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62520" y="417672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666880" y="42670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880" y="5700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66880" y="462924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666880" y="3581280"/>
              <a:ext cx="1295640" cy="443160"/>
              <a:chOff x="2666880" y="3581280"/>
              <a:chExt cx="1295640" cy="443160"/>
            </a:xfrm>
          </p:grpSpPr>
          <p:sp>
            <p:nvSpPr>
              <p:cNvPr id="187" name=""/>
              <p:cNvSpPr/>
              <p:nvPr/>
            </p:nvSpPr>
            <p:spPr>
              <a:xfrm>
                <a:off x="2666880" y="40244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80360" y="358128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666880" y="49528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1360" y="3276720"/>
              <a:ext cx="178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to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85800" y="4191120"/>
              <a:ext cx="1905120" cy="398880"/>
              <a:chOff x="685800" y="4191120"/>
              <a:chExt cx="1905120" cy="398880"/>
            </a:xfrm>
          </p:grpSpPr>
          <p:sp>
            <p:nvSpPr>
              <p:cNvPr id="192" name=""/>
              <p:cNvSpPr/>
              <p:nvPr/>
            </p:nvSpPr>
            <p:spPr>
              <a:xfrm>
                <a:off x="2057400" y="44053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5800" y="4191120"/>
                <a:ext cx="14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745720" y="5181480"/>
              <a:ext cx="1093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nsw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3680" y="426240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6600" y="6039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0640" y="533412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76720" y="5029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6720" y="55627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85080" y="5715000"/>
              <a:ext cx="1905840" cy="398880"/>
              <a:chOff x="685080" y="5715000"/>
              <a:chExt cx="1905840" cy="398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59292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080" y="571500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22860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4800" y="213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4080" y="4648320"/>
            <a:ext cx="308880" cy="990000"/>
            <a:chOff x="1144080" y="4648320"/>
            <a:chExt cx="308880" cy="990000"/>
          </a:xfrm>
        </p:grpSpPr>
        <p:sp>
          <p:nvSpPr>
            <p:cNvPr id="207" name=""/>
            <p:cNvSpPr/>
            <p:nvPr/>
          </p:nvSpPr>
          <p:spPr>
            <a:xfrm>
              <a:off x="1295280" y="5333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5280" y="46483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4080" y="4876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53880" y="6143760"/>
            <a:ext cx="8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1800" y="17136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Using The Stack  -  Main Program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1520" y="147600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Main 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07FFE,SP         Initialize  Stack Poi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Base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Exponent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Answer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           Call subroutine  PO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2(SP),SP            Stack clean-up:  stack pointer reset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Do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Base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Exponent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answer to be stored 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The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-  Subrouti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(SP),A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Base address  in A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8(SP),A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Exponent address  in A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(SP),A3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Answer address address in A3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1)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2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from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(A3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result in memor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45120" y="809640"/>
            <a:ext cx="3507480" cy="4876920"/>
            <a:chOff x="645120" y="809640"/>
            <a:chExt cx="3507480" cy="4876920"/>
          </a:xfrm>
        </p:grpSpPr>
        <p:sp>
          <p:nvSpPr>
            <p:cNvPr id="217" name=""/>
            <p:cNvSpPr/>
            <p:nvPr/>
          </p:nvSpPr>
          <p:spPr>
            <a:xfrm>
              <a:off x="2857320" y="34531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57320" y="4538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320" y="4891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823840" y="1100160"/>
              <a:ext cx="1295640" cy="443160"/>
              <a:chOff x="2823840" y="1100160"/>
              <a:chExt cx="1295640" cy="443160"/>
            </a:xfrm>
          </p:grpSpPr>
          <p:sp>
            <p:nvSpPr>
              <p:cNvPr id="221" name=""/>
              <p:cNvSpPr/>
              <p:nvPr/>
            </p:nvSpPr>
            <p:spPr>
              <a:xfrm>
                <a:off x="2823840" y="154332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37320" y="110016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171520" y="26384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7320" y="3824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120" y="80964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9920" y="240984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57320" y="41720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013400" y="4491000"/>
              <a:ext cx="1753560" cy="398880"/>
              <a:chOff x="1013400" y="4491000"/>
              <a:chExt cx="1753560" cy="398880"/>
            </a:xfrm>
          </p:grpSpPr>
          <p:sp>
            <p:nvSpPr>
              <p:cNvPr id="229" name=""/>
              <p:cNvSpPr/>
              <p:nvPr/>
            </p:nvSpPr>
            <p:spPr>
              <a:xfrm>
                <a:off x="2233440" y="4719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13400" y="449100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857320" y="27622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57320" y="3119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2600" y="157176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57320" y="157176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57320" y="1819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57320" y="2428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57320" y="21384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12120" y="382932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3880" y="312444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4720" y="241488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74400" y="828720"/>
            <a:ext cx="3507480" cy="4876920"/>
            <a:chOff x="4874400" y="828720"/>
            <a:chExt cx="3507480" cy="4876920"/>
          </a:xfrm>
        </p:grpSpPr>
        <p:sp>
          <p:nvSpPr>
            <p:cNvPr id="242" name=""/>
            <p:cNvSpPr/>
            <p:nvPr/>
          </p:nvSpPr>
          <p:spPr>
            <a:xfrm>
              <a:off x="7086600" y="3471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4557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6600" y="49100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053120" y="1119240"/>
              <a:ext cx="1295640" cy="442800"/>
              <a:chOff x="7053120" y="1119240"/>
              <a:chExt cx="1295640" cy="442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053120" y="15620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66600" y="111924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7086600" y="3843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4400" y="82872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0800" y="1971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86360" y="17431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41911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242680" y="4510080"/>
              <a:ext cx="1753560" cy="398880"/>
              <a:chOff x="5242680" y="4510080"/>
              <a:chExt cx="1753560" cy="398880"/>
            </a:xfrm>
          </p:grpSpPr>
          <p:sp>
            <p:nvSpPr>
              <p:cNvPr id="254" name=""/>
              <p:cNvSpPr/>
              <p:nvPr/>
            </p:nvSpPr>
            <p:spPr>
              <a:xfrm>
                <a:off x="6462720" y="473868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42680" y="451008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086600" y="27813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31384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1880" y="159084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159084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86600" y="1838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86600" y="2448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86600" y="2157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1400" y="384804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03160" y="314316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64000" y="243360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87680" y="1819440"/>
              <a:ext cx="11530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366400" y="1812960"/>
            <a:ext cx="581760" cy="2379960"/>
            <a:chOff x="8366400" y="1812960"/>
            <a:chExt cx="581760" cy="2379960"/>
          </a:xfrm>
        </p:grpSpPr>
        <p:sp>
          <p:nvSpPr>
            <p:cNvPr id="268" name=""/>
            <p:cNvSpPr/>
            <p:nvPr/>
          </p:nvSpPr>
          <p:spPr>
            <a:xfrm>
              <a:off x="8366400" y="1812960"/>
              <a:ext cx="4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66760" y="37940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29040" y="3108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67120" y="234612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72840" y="6005520"/>
            <a:ext cx="8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57200" y="2733840"/>
            <a:ext cx="1828800" cy="1676160"/>
            <a:chOff x="457200" y="2733840"/>
            <a:chExt cx="1828800" cy="1676160"/>
          </a:xfrm>
        </p:grpSpPr>
        <p:sp>
          <p:nvSpPr>
            <p:cNvPr id="274" name=""/>
            <p:cNvSpPr/>
            <p:nvPr/>
          </p:nvSpPr>
          <p:spPr>
            <a:xfrm>
              <a:off x="566640" y="3143160"/>
              <a:ext cx="13716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     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2733840"/>
              <a:ext cx="1828800" cy="1676160"/>
            </a:xfrm>
            <a:prstGeom prst="rightArrow">
              <a:avLst>
                <a:gd name="adj1" fmla="val 50000"/>
                <a:gd name="adj2" fmla="val 27277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495680" y="3048120"/>
            <a:ext cx="2057400" cy="685800"/>
            <a:chOff x="4495680" y="3048120"/>
            <a:chExt cx="2057400" cy="685800"/>
          </a:xfrm>
        </p:grpSpPr>
        <p:sp>
          <p:nvSpPr>
            <p:cNvPr id="277" name=""/>
            <p:cNvSpPr/>
            <p:nvPr/>
          </p:nvSpPr>
          <p:spPr>
            <a:xfrm>
              <a:off x="4569120" y="3200760"/>
              <a:ext cx="1750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SR      POW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3048120"/>
              <a:ext cx="2057400" cy="6858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7640" y="838080"/>
            <a:ext cx="20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 after 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876560" y="838080"/>
            <a:ext cx="3657960" cy="4876920"/>
            <a:chOff x="4876560" y="838080"/>
            <a:chExt cx="3657960" cy="4876920"/>
          </a:xfrm>
        </p:grpSpPr>
        <p:sp>
          <p:nvSpPr>
            <p:cNvPr id="282" name=""/>
            <p:cNvSpPr/>
            <p:nvPr/>
          </p:nvSpPr>
          <p:spPr>
            <a:xfrm>
              <a:off x="7239240" y="3481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3924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9240" y="4919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205760" y="1128600"/>
              <a:ext cx="1295280" cy="443160"/>
              <a:chOff x="7205760" y="1128600"/>
              <a:chExt cx="1295280" cy="443160"/>
            </a:xfrm>
          </p:grpSpPr>
          <p:sp>
            <p:nvSpPr>
              <p:cNvPr id="286" name=""/>
              <p:cNvSpPr/>
              <p:nvPr/>
            </p:nvSpPr>
            <p:spPr>
              <a:xfrm>
                <a:off x="7205760" y="1571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18520" y="11286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239240" y="3852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6680" y="838080"/>
              <a:ext cx="203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after  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ean-up in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6560" y="4114800"/>
              <a:ext cx="164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39240" y="4200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395320" y="4519440"/>
              <a:ext cx="1752840" cy="398880"/>
              <a:chOff x="5395320" y="4519440"/>
              <a:chExt cx="1752840" cy="398880"/>
            </a:xfrm>
          </p:grpSpPr>
          <p:sp>
            <p:nvSpPr>
              <p:cNvPr id="293" name=""/>
              <p:cNvSpPr/>
              <p:nvPr/>
            </p:nvSpPr>
            <p:spPr>
              <a:xfrm>
                <a:off x="6615000" y="474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95320" y="451944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7239240" y="27907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9240" y="3147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3452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924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9240" y="1847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9240" y="245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9240" y="2166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09480" y="1128600"/>
            <a:ext cx="3858480" cy="4586400"/>
            <a:chOff x="609480" y="1128600"/>
            <a:chExt cx="3858480" cy="4586400"/>
          </a:xfrm>
        </p:grpSpPr>
        <p:sp>
          <p:nvSpPr>
            <p:cNvPr id="303" name=""/>
            <p:cNvSpPr/>
            <p:nvPr/>
          </p:nvSpPr>
          <p:spPr>
            <a:xfrm>
              <a:off x="2590920" y="3481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4919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557440" y="1128600"/>
              <a:ext cx="1295280" cy="443160"/>
              <a:chOff x="2557440" y="1128600"/>
              <a:chExt cx="1295280" cy="443160"/>
            </a:xfrm>
          </p:grpSpPr>
          <p:sp>
            <p:nvSpPr>
              <p:cNvPr id="307" name=""/>
              <p:cNvSpPr/>
              <p:nvPr/>
            </p:nvSpPr>
            <p:spPr>
              <a:xfrm>
                <a:off x="2557440" y="1571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770200" y="11286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2590920" y="3852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81080" y="2670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43828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0920" y="4200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47000" y="4519440"/>
              <a:ext cx="1752840" cy="398880"/>
              <a:chOff x="747000" y="4519440"/>
              <a:chExt cx="1752840" cy="398880"/>
            </a:xfrm>
          </p:grpSpPr>
          <p:sp>
            <p:nvSpPr>
              <p:cNvPr id="314" name=""/>
              <p:cNvSpPr/>
              <p:nvPr/>
            </p:nvSpPr>
            <p:spPr>
              <a:xfrm>
                <a:off x="1966680" y="474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7000" y="451944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2590920" y="27907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0920" y="3147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9092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0920" y="1847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0920" y="245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90920" y="2166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5720" y="385776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07120" y="31528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68320" y="244332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86560" y="2446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920" y="380988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6920" y="312408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86560" y="45561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749160" y="6005520"/>
            <a:ext cx="8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572000" y="2971800"/>
            <a:ext cx="2057400" cy="685800"/>
            <a:chOff x="4572000" y="2971800"/>
            <a:chExt cx="2057400" cy="685800"/>
          </a:xfrm>
        </p:grpSpPr>
        <p:sp>
          <p:nvSpPr>
            <p:cNvPr id="332" name=""/>
            <p:cNvSpPr/>
            <p:nvPr/>
          </p:nvSpPr>
          <p:spPr>
            <a:xfrm>
              <a:off x="4648320" y="3111480"/>
              <a:ext cx="18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    12(SP),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2000" y="2971800"/>
              <a:ext cx="2057400" cy="6858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57200" y="2924280"/>
            <a:ext cx="1295280" cy="685800"/>
            <a:chOff x="457200" y="2924280"/>
            <a:chExt cx="1295280" cy="685800"/>
          </a:xfrm>
        </p:grpSpPr>
        <p:sp>
          <p:nvSpPr>
            <p:cNvPr id="335" name=""/>
            <p:cNvSpPr/>
            <p:nvPr/>
          </p:nvSpPr>
          <p:spPr>
            <a:xfrm>
              <a:off x="601200" y="3079800"/>
              <a:ext cx="648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7200" y="2924280"/>
              <a:ext cx="1295280" cy="685800"/>
            </a:xfrm>
            <a:prstGeom prst="rightArrow">
              <a:avLst>
                <a:gd name="adj1" fmla="val 50000"/>
                <a:gd name="adj2" fmla="val 47218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VE Multiple:  MOVEM  Instru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instruction saves or restores multiple register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eful in subroutines to save the values of registers not used to pass parameters.    MOVEM has two form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M register_list,&lt;ea&gt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M &lt;ea&gt;,register_lis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 effect on CC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  Saving/restoring registers to from mem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R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D0-D7/A0-A6,SAVEBLOCK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D0-D7/A0-A6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SAVEBLOCK,D0-D7/A0-A7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D0-D7/A0-A6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 Saving/restoring registers using the stack (preferred method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R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D0-D7/A0-A6,-(SP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D0-D7/A0-A6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(SP)+,D0-D7/A0-A7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D0-D7/A0-A6  from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Power Calculation Subrou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ubroutine is needed which accepts two integers as  input parameter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base, B  (a signed integer), Size = one byte    (range:    -128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27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exponent E (a positive integer)  Size = one by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, compute the function 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E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  of answer = long wor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ional specification (pseudo code) of subroutine POWER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(B, 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  = B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input arguments,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  = E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exponent, a positive integ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D3 to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answer initialized to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le  D2  &gt;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3 =  D1*D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compute function  u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 = D2  - 1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continued product of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PO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to calling progra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Flow Chart of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838080"/>
            <a:ext cx="5873040" cy="5166720"/>
            <a:chOff x="533520" y="838080"/>
            <a:chExt cx="5873040" cy="5166720"/>
          </a:xfrm>
        </p:grpSpPr>
        <p:grpSp>
          <p:nvGrpSpPr>
            <p:cNvPr id="54" name=""/>
            <p:cNvGrpSpPr/>
            <p:nvPr/>
          </p:nvGrpSpPr>
          <p:grpSpPr>
            <a:xfrm>
              <a:off x="1066680" y="1295280"/>
              <a:ext cx="2286000" cy="4709520"/>
              <a:chOff x="1066680" y="1295280"/>
              <a:chExt cx="2286000" cy="470952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266840" y="4481280"/>
                <a:ext cx="1828800" cy="1523520"/>
                <a:chOff x="1266840" y="4481280"/>
                <a:chExt cx="1828800" cy="1523520"/>
              </a:xfrm>
            </p:grpSpPr>
            <p:sp>
              <p:nvSpPr>
                <p:cNvPr id="56" name=""/>
                <p:cNvSpPr/>
                <p:nvPr/>
              </p:nvSpPr>
              <p:spPr>
                <a:xfrm flipH="1">
                  <a:off x="1266840" y="448128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181240" y="524304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66840" y="524304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181240" y="448128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66680" y="1295280"/>
                <a:ext cx="2286000" cy="1295280"/>
                <a:chOff x="1066680" y="1295280"/>
                <a:chExt cx="2286000" cy="1295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066680" y="1295280"/>
                  <a:ext cx="2286000" cy="1295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293120" y="1447560"/>
                  <a:ext cx="182196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1 =  ba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2 =  expon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3 = 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1066680" y="2895480"/>
                <a:ext cx="2286000" cy="533160"/>
                <a:chOff x="1066680" y="2895480"/>
                <a:chExt cx="2286000" cy="5331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066680" y="2895480"/>
                  <a:ext cx="2286000" cy="533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277640" y="2985840"/>
                  <a:ext cx="164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3 = D3 * D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066680" y="3657240"/>
                <a:ext cx="2286000" cy="533160"/>
                <a:chOff x="1066680" y="3657240"/>
                <a:chExt cx="2286000" cy="533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066680" y="3657240"/>
                  <a:ext cx="2286000" cy="533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77280" y="3747600"/>
                  <a:ext cx="1483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2 = D2  -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1598760" y="5028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2  =  0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209680" y="342864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09680" y="25905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420516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H="1">
              <a:off x="533520" y="52574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838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52600" y="899640"/>
              <a:ext cx="0" cy="434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2880" y="91404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1040" y="466236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62160" y="52434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7800" y="4724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77680" y="4890960"/>
              <a:ext cx="192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343400" y="838080"/>
            <a:ext cx="4191120" cy="3809880"/>
            <a:chOff x="4343400" y="838080"/>
            <a:chExt cx="4191120" cy="3809880"/>
          </a:xfrm>
        </p:grpSpPr>
        <p:grpSp>
          <p:nvGrpSpPr>
            <p:cNvPr id="82" name=""/>
            <p:cNvGrpSpPr/>
            <p:nvPr/>
          </p:nvGrpSpPr>
          <p:grpSpPr>
            <a:xfrm>
              <a:off x="6781680" y="1890360"/>
              <a:ext cx="1295640" cy="2210040"/>
              <a:chOff x="6781680" y="1890360"/>
              <a:chExt cx="1295640" cy="2210040"/>
            </a:xfrm>
          </p:grpSpPr>
          <p:sp>
            <p:nvSpPr>
              <p:cNvPr id="83" name=""/>
              <p:cNvSpPr/>
              <p:nvPr/>
            </p:nvSpPr>
            <p:spPr>
              <a:xfrm>
                <a:off x="6781680" y="1890360"/>
                <a:ext cx="0" cy="221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077320" y="1890360"/>
                <a:ext cx="0" cy="221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781680" y="21189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1680" y="3414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303336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81680" y="3795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781680" y="1295280"/>
              <a:ext cx="1295640" cy="442800"/>
              <a:chOff x="6781680" y="1295280"/>
              <a:chExt cx="1295640" cy="442800"/>
            </a:xfrm>
          </p:grpSpPr>
          <p:sp>
            <p:nvSpPr>
              <p:cNvPr id="90" name=""/>
              <p:cNvSpPr/>
              <p:nvPr/>
            </p:nvSpPr>
            <p:spPr>
              <a:xfrm>
                <a:off x="6781680" y="17380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95160" y="129528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799880" y="2422440"/>
              <a:ext cx="1905480" cy="1008720"/>
              <a:chOff x="4799880" y="2422440"/>
              <a:chExt cx="1905480" cy="1008720"/>
            </a:xfrm>
          </p:grpSpPr>
          <p:sp>
            <p:nvSpPr>
              <p:cNvPr id="93" name=""/>
              <p:cNvSpPr/>
              <p:nvPr/>
            </p:nvSpPr>
            <p:spPr>
              <a:xfrm>
                <a:off x="4799880" y="2422440"/>
                <a:ext cx="13557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P dur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rout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2200" y="28191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648320" y="3276360"/>
              <a:ext cx="1868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and af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f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brout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5880" y="3566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266688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26668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6600" y="838080"/>
              <a:ext cx="27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ffect on The 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3400" y="838080"/>
              <a:ext cx="419112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WER: Four Parameter Passing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’ll examine four assembly versions of subroutine POWER and sample Main programs that calls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version uses a different parameter passing metho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data register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address register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the stack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the stack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819520"/>
            <a:ext cx="7696080" cy="27432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5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Data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ain Progra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,D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,D2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exponent number into D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ve  ans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Data Regis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 - 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result to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MULS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y result with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rement power by 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Address Regis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ain Progra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,A1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1  points to base numb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,A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2  points to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 answer in memor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Address Registers Continued - 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MOVE.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1)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base number 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2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09-24T09:30:16Z</cp:lastPrinted>
  <dcterms:modified xsi:type="dcterms:W3CDTF">1998-09-24T09:39:51Z</dcterms:modified>
  <cp:revision>2449</cp:revision>
  <dc:subject>Perl</dc:subject>
  <dc:title>CECS470</dc:title>
</cp:coreProperties>
</file>