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F2D-A720-4CAA-97B2-09BD0C9C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26F-B85E-48A6-A51D-0229214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050-E194-4370-A03D-2C2B09EF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258-4A3A-471A-878C-48F2F24B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EA1-9911-4369-A303-BC90D12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839-EF23-4B2B-8CC2-92F16C89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73F-16DD-400C-B0FC-526F52C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C77-1AD1-4C79-9A86-D491FB36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088-BD64-4553-A311-F8D1436B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73A-728D-4EEC-8956-83EE3A8E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9D5-4552-417F-ADD6-91B887A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FE9-60D1-4633-890C-B57D707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B10-9CF9-45BB-A38B-85D48907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076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5640" y="35244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to the contents of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 and stores the result in the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addressing modes; however, either source or destinatio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ust be a data regis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                            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3360" y="4162320"/>
            <a:ext cx="5639040" cy="1981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Lef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left operation  ASL  moves the bits of the operan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ecified number of positions to the lef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left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multiplying by 2-cubed or 8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each bit is shifted left, it is stored in the Carry flag of the CCR.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acant spot on the right is filled with a zero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00010111  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10111000        Af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Righ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right operation ASR moves the bits of the operand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ed number of positions to the righ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righ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dividing by 2 for each position shift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 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D0] = 00010111   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00000010  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it shifted off the right side is stored in the Carry flag of the CCR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left side,  the MSB is propagated to the le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lso called sign extension). For exampl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01001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11101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SL-ASR-TOP" descr=""/>
          <p:cNvPicPr/>
          <p:nvPr/>
        </p:nvPicPr>
        <p:blipFill>
          <a:blip r:embed="rId1"/>
          <a:stretch/>
        </p:blipFill>
        <p:spPr>
          <a:xfrm>
            <a:off x="442800" y="125280"/>
            <a:ext cx="8382240" cy="2756160"/>
          </a:xfrm>
          <a:prstGeom prst="rect">
            <a:avLst/>
          </a:prstGeom>
          <a:ln w="0">
            <a:noFill/>
          </a:ln>
        </p:spPr>
      </p:pic>
      <p:pic>
        <p:nvPicPr>
          <p:cNvPr id="73" name="ASL-ASR-BOT" descr=""/>
          <p:cNvPicPr/>
          <p:nvPr/>
        </p:nvPicPr>
        <p:blipFill>
          <a:blip r:embed="rId2"/>
          <a:stretch/>
        </p:blipFill>
        <p:spPr>
          <a:xfrm>
            <a:off x="414360" y="2987640"/>
            <a:ext cx="8381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485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ASL,  A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SL-ASR" descr=""/>
          <p:cNvPicPr/>
          <p:nvPr/>
        </p:nvPicPr>
        <p:blipFill>
          <a:blip r:embed="rId1"/>
          <a:stretch/>
        </p:blipFill>
        <p:spPr>
          <a:xfrm>
            <a:off x="533520" y="1671480"/>
            <a:ext cx="830556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ffect of Arithmetic Operations on the CCR: Examp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5560" y="15951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               SUB.B               CLR.B                  ASL.B               ASR.B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101011 (107)    01101011 (107)     01101011 (107)     01101011 (107)     01101011 (107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011010 (90)       01011010 (90)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 before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1000101               11101111                 00000000              11010110               00110101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fter)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1 0 1 0        0 1 0 0 0          - 0 1 0 0         0 1 0 1 0          1 0 0 0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NZVC     XNZVC       XNZVC       XNZVC       XNZV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3800" y="1600200"/>
            <a:ext cx="8091720" cy="3200400"/>
            <a:chOff x="523800" y="1600200"/>
            <a:chExt cx="8091720" cy="3200400"/>
          </a:xfrm>
        </p:grpSpPr>
        <p:sp>
          <p:nvSpPr>
            <p:cNvPr id="79" name=""/>
            <p:cNvSpPr/>
            <p:nvPr/>
          </p:nvSpPr>
          <p:spPr>
            <a:xfrm>
              <a:off x="533520" y="23623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520" y="20098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800" y="3257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7560" y="3914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42670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915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9080" y="16527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383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160020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Log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8584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instructions includ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 Exclusive OR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lusiv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’s Complement of bits of destinatio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  Set if the most significant bit of the result is set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amples:   AND -(A0),D1      ANDI.B #$CD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ANDI #%00101,CCR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.L 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OR.L (A1)+ 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581280"/>
            <a:ext cx="5943600" cy="2057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SL   /  LS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Logical Shift Left/R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cated bit positions are always zero-fill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Set according to the last bit shifted out of the operand; unaffect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result is negative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Set according to the last bit shifted out of the operand; clear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LSL, L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SL-LSR" descr=""/>
          <p:cNvPicPr/>
          <p:nvPr/>
        </p:nvPicPr>
        <p:blipFill>
          <a:blip r:embed="rId1"/>
          <a:stretch/>
        </p:blipFill>
        <p:spPr>
          <a:xfrm>
            <a:off x="533520" y="178128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6172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6628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 / R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tate Left/Righ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or rotate the operand the specified number of position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/right.   Bits that move off one end are put back on the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end  after setting or clearing the C-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Set according to the last bit rotated out of the operand; cleared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en the rotate count is zer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5080" y="6948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L, 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ol-ror" descr=""/>
          <p:cNvPicPr/>
          <p:nvPr/>
        </p:nvPicPr>
        <p:blipFill>
          <a:blip r:embed="rId1"/>
          <a:stretch/>
        </p:blipFill>
        <p:spPr>
          <a:xfrm>
            <a:off x="523800" y="2244600"/>
            <a:ext cx="8305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2" descr=""/>
          <p:cNvPicPr/>
          <p:nvPr/>
        </p:nvPicPr>
        <p:blipFill>
          <a:blip r:embed="rId1"/>
          <a:stretch/>
        </p:blipFill>
        <p:spPr>
          <a:xfrm>
            <a:off x="485640" y="216000"/>
            <a:ext cx="8367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XL, ROXR            Rotate Left/Right with eXte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ing the X-bi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    ROXR.B  #1,D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bit 7 to 6, bit 6 to 5… bit 1 to  0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 bit 0 to the X-bit and  the X-bit to  bit 7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to the value of the last bit rotated out of the operand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affected when the rotate count is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according to the last bit rotated out of the operand; when th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tate count is zero, set to the value of the extend bit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with eXtend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XL, ROX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oxl-roxr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 using rota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temporary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2 used to count that 7 bits have been teste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7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7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%01111111,D0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      D0,D1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ke a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R.B     #1,D1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tate 1 bit righ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         Zero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.B   #%10000000,D0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 #1,D2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   Next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     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53080" y="1676520"/>
            <a:ext cx="2057400" cy="1389240"/>
            <a:chOff x="6553080" y="1676520"/>
            <a:chExt cx="2057400" cy="1389240"/>
          </a:xfrm>
        </p:grpSpPr>
        <p:grpSp>
          <p:nvGrpSpPr>
            <p:cNvPr id="107" name=""/>
            <p:cNvGrpSpPr/>
            <p:nvPr/>
          </p:nvGrpSpPr>
          <p:grpSpPr>
            <a:xfrm>
              <a:off x="6553080" y="1676520"/>
              <a:ext cx="2057400" cy="823680"/>
              <a:chOff x="6553080" y="1676520"/>
              <a:chExt cx="2057400" cy="82368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553080" y="2119320"/>
                <a:ext cx="2057400" cy="380880"/>
                <a:chOff x="6553080" y="2119320"/>
                <a:chExt cx="2057400" cy="3808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53080" y="211932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33960" y="21193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7070400" y="167652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781680" y="242424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5120" y="2666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t Manipulation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68000 four instruction that manipulate single bi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sts the value of a bit.  If zero, the Z-flag is se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S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1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ggles (reverses) the specified 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t number for this operation can be specified in one of two way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mediate:  e.g.  #0, #1, #2, ..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er:  The specified data register contains the position of the bit to be manipulat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 are performed 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byte if the operand is in memory o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long word if the operand is a data register. Thu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instruction extension is required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32832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7048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counter which will range from 6 to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6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 6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st the bit specified by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E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 toggl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#1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05720" y="2286000"/>
            <a:ext cx="2057400" cy="1389240"/>
            <a:chOff x="6705720" y="2286000"/>
            <a:chExt cx="2057400" cy="1389240"/>
          </a:xfrm>
        </p:grpSpPr>
        <p:grpSp>
          <p:nvGrpSpPr>
            <p:cNvPr id="119" name=""/>
            <p:cNvGrpSpPr/>
            <p:nvPr/>
          </p:nvGrpSpPr>
          <p:grpSpPr>
            <a:xfrm>
              <a:off x="6705720" y="2286000"/>
              <a:ext cx="2057400" cy="823680"/>
              <a:chOff x="6705720" y="2286000"/>
              <a:chExt cx="2057400" cy="8236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6705720" y="2728800"/>
                <a:ext cx="2057400" cy="380880"/>
                <a:chOff x="6705720" y="2728800"/>
                <a:chExt cx="205740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705720" y="272880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86600" y="272880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7223040" y="228600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34320" y="30337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7760" y="327636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Counting 6’s in A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20 one-byte value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counts the number of 6’s in this array and stores the count in register D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2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0 values to exami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he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ick up an element from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6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s it a 6?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ot 6 THEN skip counter incre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6 THEN bump up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2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,6,4,5,5,6,2,5,6,7,6,6,6,1,3,5,9,6,7,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39060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immediate:   Adds an immediate value to a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and stores the results in the destination. This c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used to add an immediate value to a memory 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Immediate valu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address register direct, program counter relative and immediat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 Set  (=1)  if the result  (destination) is negative,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ed  (=0)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 Set if an overflow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Set if a carry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Set the same as the carry bi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28840" y="3772080"/>
            <a:ext cx="6248160" cy="2361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27144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57636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and the X flag to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s of a destination location and stores the result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 All addressing modes; however, either source or destination must be a data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267080"/>
            <a:ext cx="6629400" cy="1905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7560" y="11916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VS,  DIV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U performs unsigned division and DIV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ision on two's complement number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32-bit long word in the data register is divided by the 16-bit word at the effective addres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6-bit quotient is stored in the lower-order word of the regist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he remainder is stored in the upper-order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All modes except address register dire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Data regist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if the quotient is negative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quotient is zero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division overflow occurs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99840" y="25200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S, MUL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U performs unsigned multiplication and MUL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on two's complement numbers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is a 16-bit operation that multiplies the low-order 16-bit word in Dn (destination data register) by the 16-bit word at the effective address. The 32-bit results is stored in Dn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All modes except address register direct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Data register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Set  if the result  is negative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Set if an overflow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14800"/>
            <a:ext cx="5943600" cy="19810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1760" y="2998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 EXTend 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56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s the sign bit of the low-order byte or word of a da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of a data regist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W sign extends the low order byte to 16 bits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L  sign extends the low order word to 32 bit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 = $000000C3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W 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0000FFC3  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 = $0000E1FC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L  D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FFFFE1FC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2408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4480" y="457200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Adding Elements of An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10 one-byte  signed values (i.e.  In  2’s complement representa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adds the elements of this array and stores the sum in register D2 as a long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0 values to ad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emporary register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                             Clear the sum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py an element from the array in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word siz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long wor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  array element to the sum in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1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EF,$CD,$CC,$0A,$FF,$DA,$91,$DD,$4A,$8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10-21T23:40:21Z</cp:lastPrinted>
  <dcterms:modified xsi:type="dcterms:W3CDTF">1998-10-21T23:40:23Z</dcterms:modified>
  <cp:revision>1722</cp:revision>
  <dc:subject>Perl</dc:subject>
  <dc:title>CECS470</dc:title>
</cp:coreProperties>
</file>